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A99F-CEA2-43CD-B0BE-40C7A076B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8721-0D2B-4DD3-9077-22EFFFAB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EFC6-18AE-406B-AAB0-EE9B99EA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4EA6-059D-42E6-A5C3-437D99636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7D81-F800-4039-8357-6C5D84A41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CC4D-4E2C-4614-AA3A-88EFB680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314E-282E-40CF-9BA0-279A6104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D558-2E8C-4BDB-A388-63F30A67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DC0C-F4EE-498D-A4AC-89310567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D2A4-176F-4DFB-9250-2A7F0979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5990-4AC8-4BE4-A876-643BD719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99A6-A386-47EE-A0D2-840C4314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222F-A0EF-47AE-A135-23FFA07D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C007-442E-4AC7-960B-BE12D9BF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48ED-B4D5-42CA-A2DD-A179B468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05D0-A1A1-45B3-A919-78EEEAC0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AC26-68E5-4EC0-851E-6A21E61EF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9A99-0E00-4848-BE9E-3CD8280A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CDC4-342E-4123-9C2C-C3921834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7840-1A0F-49A8-BFE6-958A1655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3144-3228-4F68-ACCE-4EAF6A06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21D0-C481-4672-9F75-0FCA32E6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A5BA-E1C8-4E33-B45D-E0AB958B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1836-6803-43E4-9D84-F588664A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F01B-4E00-4AF3-A614-E4B3BA05EA7E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24A1-BEAA-4CC9-BE49-1641A313960A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12C2-EB96-44E0-B7FF-B0BE7F00F053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2FE4-E9CE-4071-82B8-3084B89D25C7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2096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Chapter 8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구조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50292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3886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니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2542-AB76-443C-9F7E-93095ECA6F3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9DB496-118E-4908-B606-929ABD9CFEE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8_3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6782040" cy="573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B9E5-7D06-4849-9EDE-3D55C5E5454C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4CEA43-602B-4AD4-8501-5444FCF8C50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위한 대상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RDBMS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DBMS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 기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표준 관계형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BMS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설비를 이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전문적인 데이터 추출 도구를 이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위 데이터 접근 도구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관계형 조회 사용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관계형 데이터의 다차원 시각을 이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주문식 사용자 인터페이스를 이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특수 목적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SS/EIS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사용자 인터페이스 사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설계시 세가지 결정적인 문제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22CE-A091-49AC-80A4-EC3BEF4A6AD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439F84-A789-44E4-A881-A74AB00D060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대상 데이터베이스로서의 종래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RDB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종래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와 범용 데이터 접근 도구들을 이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근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DBMS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복잡한 조회와 분석 기능을 지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지원하기 위한 추가적인 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과 복제 서비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병렬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회 최적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트맵 색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색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렬 및 적재 시간의 단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새로운 저가 최적화 프로그램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조회 성능 최적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racle 7.3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및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ybase System 11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Q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속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59EA-0097-422C-87F5-57CF9C8C158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F84BD-EAF6-4ABF-BF11-15864AE027E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자산권이 있는 대상 데이터베이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분명한 사업적 명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사 결정 지원 응용 프로그램을 위해 중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차원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A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처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복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회 기능들 사이의 긴밀한 통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자산권 데이터웨어하우징 도구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온라인 조회에 신속한 반응을 제공하기 위해 특별히 설계된 다중 플랫폼 엔진을 통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파일 세분화와 분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저장된 절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문식 데이터웨어하우징 기능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반복 조회 지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QL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 기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6174-38C4-4665-BB6D-EFBE7354067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A5DB22-9D70-40E9-8FF4-330D15CF3F4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추출과 관리 도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 및 변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종래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필요한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문적인 데이터 추출 도구들이 필요한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두 기능을 보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종래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의해 제공되는 능력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과 변환이라는 전문화된 도구들로 보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과 변환 도구의 두 가지 주요 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oint-and-click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식 인터페이스 제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리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재조정을 수행하는 프로그램을 자동으로 생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D89C-FD73-45BF-A298-2134F124153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939CF1-4C7A-47AB-ADE9-1C1E43E3563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메타데이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다음을 설명하는 데이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들은 소스 데이터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형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대상 데이터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형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대상 데이터를 생성하기 위해 소스 데이터에 적용되었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변환 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데이터에서 이루어진 변경사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 저장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상위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ASE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에 의해 생성된 정보 모델을 포함 가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표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DL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터페이스를 사용하여 반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8201-9E24-4A60-B1CC-14FFCD16978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D3AC8F-D445-46DB-8B27-81E752BC167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전위 데이터 접근 도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어떤 전위 도구들이 적합한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관계형 데이터 접근 도구를 사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수 목적의 다차원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SS/EIS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가 필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관계형 조회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들이 관계형 데이터에 매우 편리하게 접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도움없이 조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고서 및 그래픽 프리젠테이션을 지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산업 표준 사용자 인터페이스의 지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모든 표준 플랫폼으로의 이주 가능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9CC2-418B-42AC-8E38-2D4A6840C2A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8904B6-8F7E-4797-837B-52191E7BDF1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관계형 데이터의 다차원 시각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대상 데이터베이스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종래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종사용자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여러 차원에서 관계형 데이터를 분석할 수 있는 능력을 부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DBM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지원없이 다차원 데이터 분석을 수행할 수 있는 능력을 부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F693-1055-4B6D-80C4-3FD9A88447A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D3CD15-F5DB-4D58-BBCD-1859477DEEB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SS/EIS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도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고급 다차원 데이터 분석을 위해 사용되는 좀더 복잡한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SS/EIS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재무 보고와 통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업 계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ine-of-business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익성 보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업 예산 작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리보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745F-5ACB-4556-A7A4-633068AB591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74538E-4EFF-4F0A-860D-F13A0AB4776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클라이언트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/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서버 도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종 사용자들의 특정 요건을 만족하는 주문식 의사 결정 지원 응용 프로그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파워소프트 사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owerBui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이 간편한 그래픽 사용자 인터페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UI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걸쳐 공통된 모양과 느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순한 데이터베이스 접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가 조정 가능한 온라인 도움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광범위한 멀티미디어 응용 프로그램을 지원하기 위한 확장성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스프레드시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워드 프로세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계 패키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등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F1AA-0307-4676-8C66-1ED329086E8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19CCFD-937F-4FAF-8644-5CD1F106E98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8960" y="5335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전략적 사업 개요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략적 사업 목표를 만족시키는 강력한 기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서비스 개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처리 비용 절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접근을 쉽게 한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 조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관리자들의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73%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접근 안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호스트 컴퓨터 시스템에 대한 투자 보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 패키지를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라이언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들을 전위에 배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를 재정비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y D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C734-8BED-467B-B768-5050F78A4E9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597581-46A0-47EE-977F-D697FE24219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접근 도구의 선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쉬운 사용과 탄탄한 기능에 대한 요건에 따라 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용자 편이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oint-and-click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식 인터페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중 문서 인터페이스 프레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아이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움말 기능과 같은 일련의 일상적인 기능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적 요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어떤 조회 도구를 사용할 것인지에 따라 결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문식 의사 결정 지원 응용 프로그램 개발 필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/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F147-EAF3-4EA4-92E9-EF67B104D2D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9FE69D-4DE1-4079-8752-F704280EBFF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구현 옵션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의 구현시 구조적 옵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인프레임 응용 프로그램 리호스트하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구조에서 메인프레임을 서버로 사용하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기업 정보 구조 구축하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8E8E-1C54-40F6-8E32-F33663E2CE8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E7C175-8D13-45BA-9C4C-C8BF3E22130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메인프레임 응용 프로그램 리호스트 하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존 코드를 저가 서버로 이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존 응용 프로그램들을 훨씬 더 싼 비용의 마이크로컴퓨터 기반 서버로 이동시키는 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 서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UNIX(Solaris), Windows 2000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리호스팅 도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icroFocus COBOL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략적 사업 문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환경 구축에 매력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새로운 응용 프로그램과 서비스를 개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존 코드가 앞으로 수년 동안 사용 예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리호스팅은 비용을 줄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F329-E998-4130-A54C-02CAAD336A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7B7C05-F9E5-457B-BC0A-B73BF6B8C8D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서버로서의 메인프레임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2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층 구조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층 접근 방식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2-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ier architect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후위 서버 구성 요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인프레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위 클라이언트 구성 요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AN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반 응용 프로그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:</a:t>
            </a:r>
            <a:r>
              <a:rPr b="0" lang="ko-KR" sz="2000" spc="-1" strike="noStrike">
                <a:solidFill>
                  <a:srgbClr val="000099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기존 메인프레임 시스템의 복잡성을 감추는 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S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Visual 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사이베이스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파워소프트 사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owerBuil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볼랜드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lph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8-1: 2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층 데이터 웨어하우징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존 시스템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데이터베이스 서버처럼 활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이 없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t-client”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위 시스템의 개발을 부추긴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D5CD-ED62-4DDE-A4D6-9A8CB611559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517E9-6471-42BF-97DA-2578E11A808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8_1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229600" cy="5684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FDD3-6E95-49D8-B036-F1A504F811C9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EFD10F-8106-4342-8F6F-96BD095C6FE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기업 정보 구조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3-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tier architectur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을 위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층 기업 정보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호스트 컴퓨터에 있는 소스 데이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속 데이터베이스 서버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대상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Target) DB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와 같은 조직 전체 공유 데이터와 업무 규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래픽 지향적인 최종 사용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LAN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C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또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Works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적합한” 데이터 웨어하우징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설계시 일련의 대안 데이터 웨어하우징 구조를 조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략적 사업 요건을 만족하는 구조 선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0EB4-1FAE-491A-8480-5F151F6230B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9FBD09-86A4-407F-9AF1-669FE327CBD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8_2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8077320" cy="577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8EB1-245E-46AA-B0B4-0CAE00EC77DE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3CB18E-5FEB-4F39-955D-9CE54CD0DCA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의 구성요소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8-3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호스트 컴퓨터에 있는 소스 데이터베이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 데이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 및 변환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모델링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중앙 저장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위한 대상 데이터베이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위 데이터 접근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3D2F-EF46-4335-9B24-58361D056C6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7442FF-834B-4D86-B3B1-AD227E78A27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iawei Han</dc:creator>
  <dc:description/>
  <dc:language>en-US</dc:language>
  <cp:lastModifiedBy>Jong Soo Park</cp:lastModifiedBy>
  <cp:lastPrinted>1999-09-10T20:38:56Z</cp:lastPrinted>
  <dcterms:modified xsi:type="dcterms:W3CDTF">2002-05-27T23:56:13Z</dcterms:modified>
  <cp:revision>278</cp:revision>
  <dc:subject/>
  <dc:title>No Slide Title</dc:title>
</cp:coreProperties>
</file>