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E07-038C-4853-8372-CB6FC8DC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F27-674F-401F-AC7B-A06E7FD8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85A-2797-456C-A08B-DCA58C46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E85-AAD2-4322-8036-1A70F934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04F2-6A10-4DDF-8064-4EEB6E36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F93B-B400-4268-9847-CA14EC2A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A7B7-E8C5-46B4-AB27-0ACD14B6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CD0E-9937-4419-BD96-0EA6DF0B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CAF0-B8EF-48DA-8AB9-89D2803B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3B2B-6730-42AC-852B-9F4A8D1D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7205-4876-4EA4-BA95-56A8CAF9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B27-A461-48B2-A4E0-B373E17B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C8D5-D2BC-4025-B753-8767FC64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A7A0-0579-4908-8D21-D469CCFD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6239-C48F-451A-AB04-234F061E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FE2B-6A1B-4BEE-AC6C-D7A696C5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44DD-4E67-4379-B2DD-4E1CFEAF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EE9-9FB3-465F-BCD6-E24E64BC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FD0-AC1D-4FA2-B8B7-E08ACBA5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7B6-8FB4-4F6D-A400-988564AC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ED1-F3AB-47B1-A5C8-0A219DCE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75C-8379-4EE6-A98B-F19709C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F73-19C7-40FF-909E-6FF2D19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AAE-DE71-4783-8438-5ECC7F5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4D9C-7539-479F-8531-7BC23517807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C83C-F912-4894-ACCA-3074B04CAAF2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8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켓팅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5F7-B55F-41F0-AEC5-C81D193EFEB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정제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필수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는 정제된 데이터가 이미 존재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5CB-4F39-457E-BD50-CBA4CD5BF3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이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도구를 이용해 분석하는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56 – 158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230-63DB-43E3-BB65-0A1E92901C3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수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 작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트레이닝 셑과 테스트 셑을 결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적용과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ernal evaluation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와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를 적용해보고 그 결과를 분석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CCC-BA7A-4E41-9F3D-B2D0DD4C56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 모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edic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fication: decis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scrip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관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sociation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2F4-B78F-45D2-8E2B-6FA61B24C4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ecision tre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에 의한 데이터 마이닝 분석의 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oot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불만 신고에 의해서 해지자를 먼저 고른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al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체 회수를 가지고 나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결정하는 방법이 중요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결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6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Rul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흰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검정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9D6-BE89-416D-968A-40B3D51CCA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할 때 고려 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험적인 규칙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수많은 시행착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발견 후에도 끊임없이 결과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는 쉬운 것이 아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통계적 분석에 경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장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과 확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I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 분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정 분야를 중심으로 확산 예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손쉬운 도구의 활성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01E-32CD-426C-AA79-854189E3F4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현실화한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M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02D-AC72-4E4D-AF2F-51D04B3A84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학적인 경영기법을 도입하려는 시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Market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 이미 활용되고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 마케팅 접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고객 개인과의 관계를 중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1:1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fe time valu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최대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 유지 마케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tention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이탈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ction rat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0F9-7D7F-40C3-9809-EA8C33B146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의 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적 방식과 프로그램을 개발하는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결과에 오차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시에 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L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여 다양한 분석을 다차원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는 비정형화된 분석에 매우 강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를 가지므로 즉시 데이터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A25-3933-4083-A149-2B53C5780F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위한 데이터 웨어하우스 기본 구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47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OLAP, MOLAP, 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M, D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 OD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굴림"/>
              </a:rPr>
              <a:t>(feedb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화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카드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신 회사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LAP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F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귀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세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0/20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HAID(Chi-square Automatic Interaction Detector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 수식이 주어지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즉시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9B8-75C1-407C-B509-9FEB61E3F1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에 관한 정보를 체계적으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로부터 원하는 정보를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하여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필요한 데이터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고객과 관련 데이터를 이용하여 효과적인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M/DM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실시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케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팅 결과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관리함으로써 장기적인 마케팅 의사결정을 지원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675-15D6-4E85-A5E3-9AC644FBBB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단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위한 최적의 시스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의 요구가 고객 관리에 중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이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분야에서 데이터의 상관관계를 분석하여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비즈니스에 유용한 법칙을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는 고객 데이터 내용을 잘 알아야 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성향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지 고객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용카드의 위조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ud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03C-A2A8-4E1D-8333-7605C7278F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M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상관 관계를 분석하여 미래 예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환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가 광범위하게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상에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을 이용하여 복잡한 데이터 분석 요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 난이도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siness Pay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소규모의 투자로도 많고 빠른 효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분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로 데이터베이스 마케팅 분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신회사의 해지자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유통 업체의 장바구니 분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rket baske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용 카드 회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aud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일반 회사의 광고 효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제품 개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고객 성향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3FD-609E-4221-9EFA-E7E544D9D4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에 대한 </a:t>
            </a:r>
            <a:r>
              <a:rPr b="0" lang="ko-KR" sz="3600" spc="-1" strike="noStrike">
                <a:solidFill>
                  <a:srgbClr val="ff0000"/>
                </a:solidFill>
                <a:latin typeface="Tahoma"/>
                <a:ea typeface="굴림"/>
              </a:rPr>
              <a:t>잘못된 인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를 사용하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자동적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비즈니스의 법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ul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발견하고 즉각적으로 활용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누구나 데이터 마이닝 도구만 있으면 데이터 마이닝을 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통계와 다른 인공지능 기법을 이용한 새로운 기술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를 변환하지 않고 즉각적으로 분석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에는 별도의 하드웨어가 필요없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만으로도 가능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4EB-8D2A-4167-9417-966B8C4052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0T06:03:39Z</dcterms:modified>
  <cp:revision>253</cp:revision>
  <dc:subject/>
  <dc:title>제6장 데이터 웨어하우스의 관리</dc:title>
</cp:coreProperties>
</file>