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93C-84CE-49BD-8144-A10827FB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5DF-E071-4186-8257-13B02D74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07C-4F8B-48F5-BF9D-C1A06CEE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7B0-FF72-4887-A12C-674AE8E1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D84E-B376-4F36-B37F-4621D506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1A94-EA40-4C93-B4A1-F208B3B7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2D32-0D6B-4A8F-8B04-3148E132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F6F1-77D2-4021-B54E-D3A32F5B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84E5-5E64-425A-9D48-98AEC38D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AB2B-1318-46EB-8E6A-FCFADD6B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995B-FCAE-4886-8D92-D4A80169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A95-A57F-4FFA-89A1-8A98C814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E4D8-9D77-4D65-B8C4-381F170F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660D-0218-4DE4-9027-6611C5A3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936C-C9C1-45D0-9AA3-3A2A833E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BD67-5892-4426-AC31-271FE0CA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53C8-1D0C-4ABD-9471-B8737E3D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D11-5368-462D-A941-D0397D63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A4D-5154-4C9D-92F8-C1B4B65C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465-E98E-4130-BB6A-87441968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4E0-C260-4C7D-B851-11DF4003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29B-C370-4432-899C-F7421F2F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52F4-1E4D-44E3-BB99-B21B1626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2F0A-6EDB-4687-8F45-10064153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1483-5086-48D1-9898-0CB3109B9A09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7849-F959-483D-83EC-A286B5A75712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2FC7-D731-4C30-BCC1-6FF42F22127C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3985-27F2-4EFC-B4D4-6F9C4158B25B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4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3E2-D10E-48BF-BED0-A19D9BEDF82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D89CD-845A-4A65-995A-1BD401EFF52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그림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-4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핵심 구성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관리 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의사 결정 지원 도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works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C8C-0170-40EF-83FE-A391B7399A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577E6-81AE-4A86-BDCB-A77551943D9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술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플랫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 관련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ol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기술이 데이터 웨어하우징에 적합한지를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플랫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드웨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 그리고 통신 네트워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산성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의사 결정 지원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3B9-1DAB-4F63-AC21-BDC7818844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D3997-787C-4C34-8885-893A788CC05C}" type="datetime3">
              <a:rPr lang="en-US"/>
              <a:t>July 31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1523880"/>
          <a:ext cx="8381880" cy="5024520"/>
        </p:xfrm>
        <a:graphic>
          <a:graphicData uri="http://schemas.openxmlformats.org/drawingml/2006/table">
            <a:tbl>
              <a:tblPr/>
              <a:tblGrid>
                <a:gridCol w="2057040"/>
                <a:gridCol w="2667240"/>
                <a:gridCol w="1752480"/>
                <a:gridCol w="1905120"/>
              </a:tblGrid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플랫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최종 사용자 도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모델링과 데이터베이스의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특별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체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리엔니지니어링과 클리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DB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추출과 변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다차원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과 성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마이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네트워크 프로토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결정지원 응용프로그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워크스테이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 유틸리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447920" y="457200"/>
            <a:ext cx="6476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2E8-18F4-488E-A6ED-E0DCBBED9E8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90CFC-B830-42DB-8ACD-C153B045A3B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직체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을 조직체 내의 배치 위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조직과 업무 사용자 조직의 역할과 책임 명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4-6 :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적 구성 수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숙련 기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자원 관리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RM: information resource manage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업무 사용자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처리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응용 프로그램 시스템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술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8C5-667B-4332-A1CD-A8A2E92D95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F0190-D8CE-4526-9823-ED343AAAD30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3880" y="838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447920"/>
          <a:ext cx="8076960" cy="47498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전략 수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계획 및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징 목표 전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구축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업 데이터 모델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요건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징 데이터 구조 설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데이터 시각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저장소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표준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 및 사용자 디렉토리 관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베이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물리적 데이터베이스 구조 작성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적재 감시 및  조회 수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171-4A5E-4A01-B768-8C9BBB3F4A6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17E48-98B2-4731-82B6-B14EF303F52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계속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1447920"/>
          <a:ext cx="8076960" cy="50432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사용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설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규칙 지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 결과 시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처리분석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 결정 지원 응용 프로그램 개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응용프로그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전문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존 시스템 데이터의 정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분석가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프로그래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데이터와 데이터 웨어하우스의 대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를 선택 및 적재할 프로그램 작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도구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 구성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교육 전문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접근에 관한 교육 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생산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시스템 작업 진행 및 데이터 웨어하우징 적재 감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338-C72C-409E-B2FC-6CF31AB4201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8010C-C0DB-40B5-8B0C-61765E7BD7F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을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업 세분화 구조와 작업 계획의 근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의 일련의 데이터를 시작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가적인 데이터가 연속적으로 반복해서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C08-778B-4CB9-A7A6-07FFC5A654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9977A-E0BF-4DDF-891C-33B5E652A28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09680" y="20574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운영 환경 수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6002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착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5146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기업정보 구조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3048120"/>
            <a:ext cx="1676520" cy="47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데이터베이스 설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4290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데이터 변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26708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724280"/>
            <a:ext cx="198108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인터페이스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52578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생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54100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도구 및 응용 프로그램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58672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및 롤아웃 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76520" y="2209680"/>
            <a:ext cx="533160" cy="228600"/>
            <a:chOff x="1676520" y="2209680"/>
            <a:chExt cx="533160" cy="228600"/>
          </a:xfrm>
        </p:grpSpPr>
        <p:sp>
          <p:nvSpPr>
            <p:cNvPr id="142" name=""/>
            <p:cNvSpPr/>
            <p:nvPr/>
          </p:nvSpPr>
          <p:spPr>
            <a:xfrm>
              <a:off x="1676520" y="2438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895480" y="2666880"/>
            <a:ext cx="533160" cy="228600"/>
            <a:chOff x="2895480" y="2666880"/>
            <a:chExt cx="533160" cy="228600"/>
          </a:xfrm>
        </p:grpSpPr>
        <p:sp>
          <p:nvSpPr>
            <p:cNvPr id="145" name=""/>
            <p:cNvSpPr/>
            <p:nvPr/>
          </p:nvSpPr>
          <p:spPr>
            <a:xfrm>
              <a:off x="2895480" y="2895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5480" y="266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124080"/>
            <a:ext cx="533160" cy="228600"/>
            <a:chOff x="4191120" y="3124080"/>
            <a:chExt cx="533160" cy="228600"/>
          </a:xfrm>
        </p:grpSpPr>
        <p:sp>
          <p:nvSpPr>
            <p:cNvPr id="148" name=""/>
            <p:cNvSpPr/>
            <p:nvPr/>
          </p:nvSpPr>
          <p:spPr>
            <a:xfrm>
              <a:off x="4191120" y="3352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911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533160" cy="228600"/>
            <a:chOff x="5791320" y="3505320"/>
            <a:chExt cx="533160" cy="228600"/>
          </a:xfrm>
        </p:grpSpPr>
        <p:sp>
          <p:nvSpPr>
            <p:cNvPr id="151" name=""/>
            <p:cNvSpPr/>
            <p:nvPr/>
          </p:nvSpPr>
          <p:spPr>
            <a:xfrm>
              <a:off x="5791320" y="3733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362320" y="4038480"/>
            <a:ext cx="4419360" cy="381240"/>
            <a:chOff x="2362320" y="4038480"/>
            <a:chExt cx="4419360" cy="381240"/>
          </a:xfrm>
        </p:grpSpPr>
        <p:sp>
          <p:nvSpPr>
            <p:cNvPr id="154" name=""/>
            <p:cNvSpPr/>
            <p:nvPr/>
          </p:nvSpPr>
          <p:spPr>
            <a:xfrm flipH="1">
              <a:off x="2362320" y="441972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16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52480" y="4876920"/>
            <a:ext cx="533160" cy="228600"/>
            <a:chOff x="1752480" y="4876920"/>
            <a:chExt cx="533160" cy="228600"/>
          </a:xfrm>
        </p:grpSpPr>
        <p:sp>
          <p:nvSpPr>
            <p:cNvPr id="157" name=""/>
            <p:cNvSpPr/>
            <p:nvPr/>
          </p:nvSpPr>
          <p:spPr>
            <a:xfrm>
              <a:off x="1752480" y="5105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76920" y="5638680"/>
            <a:ext cx="533160" cy="228600"/>
            <a:chOff x="4876920" y="5638680"/>
            <a:chExt cx="533160" cy="228600"/>
          </a:xfrm>
        </p:grpSpPr>
        <p:sp>
          <p:nvSpPr>
            <p:cNvPr id="160" name=""/>
            <p:cNvSpPr/>
            <p:nvPr/>
          </p:nvSpPr>
          <p:spPr>
            <a:xfrm>
              <a:off x="4876920" y="5867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6920" y="563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81280" y="5334120"/>
            <a:ext cx="533160" cy="228600"/>
            <a:chOff x="3581280" y="5334120"/>
            <a:chExt cx="533160" cy="228600"/>
          </a:xfrm>
        </p:grpSpPr>
        <p:sp>
          <p:nvSpPr>
            <p:cNvPr id="163" name=""/>
            <p:cNvSpPr/>
            <p:nvPr/>
          </p:nvSpPr>
          <p:spPr>
            <a:xfrm>
              <a:off x="3581280" y="5562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1280" y="5334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77120" y="6019920"/>
            <a:ext cx="533160" cy="228600"/>
            <a:chOff x="6477120" y="6019920"/>
            <a:chExt cx="533160" cy="228600"/>
          </a:xfrm>
        </p:grpSpPr>
        <p:sp>
          <p:nvSpPr>
            <p:cNvPr id="166" name=""/>
            <p:cNvSpPr/>
            <p:nvPr/>
          </p:nvSpPr>
          <p:spPr>
            <a:xfrm>
              <a:off x="6477120" y="6248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7120" y="6019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B13E-9F99-464A-9258-2D55FDE5F59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BD217-AD1C-4F0E-BD66-274264C540D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에 알맞은 구현 및 개발 순서 제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이며 단계 지향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전환과 제거에 대한 논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현 순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교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9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은 제거되었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D42-1A83-4AC2-B19E-56E234A29DD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2C079-D971-49B9-A7EA-98C3AD7EE41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념 증명 프로젝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적으로 가능할 때마다 방법론이나 도구들에서 나타나는 모순을 파악하고 정정하기 위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제되고 제한된 환경에서 데이터 웨어하우스를 개발하고 시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 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편이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조회 및 응용 프로그램을 이용한 데이터 접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투명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구현 계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 및 다원을 추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471-9BF8-4ECD-A409-6F4E3A60BA4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9F163-4014-4335-B154-F003CC19E58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4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점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point)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나의 부서에서 필요한 구체적이고 협소한 의미의 요건들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통 접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후 업무에 대한 통합된 시각을 제공하는 의사 결정 지원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개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전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8B7-C36C-4D06-B465-3CA31091E4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2A161-84D3-4EEC-9E9A-F644A2B3F5D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리 관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포함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성공 요인과 성과 측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높은 수준의 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요소와 위험을 줄이기 위한 제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 사항 관리에 관한 토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목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정적 성공 요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평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사항 관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82F-66AD-4562-8061-0F0632EA712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DED08-9553-42F4-BE9B-170AF7B53C6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을 개발하기위한 한 가지 접근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문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획된 그리고 조정된 데이터 웨어하우징 개발이 이루어질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체계화된 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목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그리고 개념들을 조직체에게 전달하고 이해시키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미래의 비전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에 도달하는 확실한 단계들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BA9E-8FF6-409D-87AF-1DB0EEF7DC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6DF17-4355-4AD4-B166-F0947E46947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의 개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성 및 발표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월 이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의 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면담 횟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전에 문서화된 구조상의 노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상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원자의 긴급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팀 규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62E-913A-4829-A432-60548FF2D8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BD7E1-8DA5-460A-BF31-C41CB132138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목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의 정보 필요성 만족 범위 평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영역에서의 실행 과정을 권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목적을 위하여 전략 정보의 적시 포착과 배포에 적합한 구조 창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기반 도구를 비롯한 새로운 기술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274-01D7-404E-AF38-AA291F9CAF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6FC22-1AEA-4F8B-B445-55125AA66E7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연구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 –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외부 자문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일제 팀 구성원 중 한 명은 내부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BAD-1C88-47B3-A71B-6428600454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C32B2-0255-4667-A5E1-D4B37349C95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연구 활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사업 관계 인사와 면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잔존 시스템과 관련된 문서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구조 문서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권고사항 전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실행 과정을 권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조직체의 우선 순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필요사항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및 기술 환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C60-4703-430C-8E49-E4F5F5028B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BD62B-4909-4649-8B79-2153E3B8E6D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문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 차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평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299-496D-46B6-B0D4-6168DA7CF4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D54F2-8369-429A-9FE6-40432DEE69F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전략과 관련된 핵심적인 권고 사항들을 요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대한 타당한 사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과 조직체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점진적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음 단계를 진행하기 위한 경영진의 행동 또는 승인에 대한 요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E46-E4A5-4373-8849-7111FAEA86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B5987-6342-492A-A445-0F9468A98B1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현재 평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리 우선 순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4-3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 주제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분화 정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부 사항 수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품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확성 완전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일관성과 무결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도 패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공유 및 분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시성과 과거 기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소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워크스테이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162-EF07-438D-9A62-66E2786FEF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EC155-571C-4D83-8659-11DBD4B9B3A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박종수</dc:creator>
  <dc:description/>
  <dc:language>en-US</dc:language>
  <cp:lastModifiedBy>박종수</cp:lastModifiedBy>
  <cp:lastPrinted>1999-09-10T20:38:56Z</cp:lastPrinted>
  <dcterms:modified xsi:type="dcterms:W3CDTF">2002-04-09T05:57:08Z</dcterms:modified>
  <cp:revision>217</cp:revision>
  <dc:subject/>
  <dc:title>데이터 웨어하우징 개발 전략</dc:title>
</cp:coreProperties>
</file>