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326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C508-D60A-486E-BE2D-0C2075CEE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E3CD-E86F-4E2C-B096-9CAF1124C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91DE-DFCC-4036-9826-949CC6BAB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1640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4772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1640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4772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89D5-313F-4F59-8BFD-26B95FE69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C194C-1406-463E-88B9-CD8F9A3D0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BBE97-39E7-40E7-BD9D-21A0A4683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72769-5DAF-4DF4-BFF9-4B834BB19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4F607-6E99-495F-8FC9-C01221624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EAD6D-92A9-4E5D-86B7-1817E231A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42640" y="685440"/>
            <a:ext cx="779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37570-DC40-43B7-BF0F-0969B6812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6557E-06F2-4975-9E2C-E7250DBE1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2997-D5C4-42D4-AFED-B1C26585F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5688C-9809-4762-8191-11607DA5C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79AED-8BAE-41CF-80DE-24E0C13C6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AF462-2578-4699-82C7-1C93EEF5E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F22F8-CA29-4D34-8A44-B460FF87C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41640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14772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44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41640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14772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6CF19-F6F7-4204-9D35-3616B2D43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5FA2-3DE8-4C5A-9583-A1DB31147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7C5E-113E-4578-B030-40EB2F460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4EEC-EE17-4BDF-984F-213895806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42640" y="685440"/>
            <a:ext cx="779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0734-A0CA-4638-B3C6-017083225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A2DE-45D0-437F-961D-8817C95F4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45A3-5BAA-40F0-83FF-E154CD0ED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DF33-B340-4F8E-9F41-CE5EB80D3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33360" y="72072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16040" y="720720"/>
            <a:ext cx="3286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114300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26920" y="1143000"/>
            <a:ext cx="36864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57320" y="12542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77880" y="61272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58920" y="1403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52280" y="6324480"/>
            <a:ext cx="1905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5D958-12AF-4940-B71D-2981082964C9}" type="datetime3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2026년 7월 31일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200040" y="632448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907D0-726A-4734-92B5-1D9764D82E75}" type="slidenum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D1CF0-EE7F-4E97-BE47-67ED4663C078}" type="datetime3"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2026년 7월 31일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D06F5-ADE3-45B1-AABA-126DCCE6CDF8}" type="slidenum"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773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징에 대한 소개 </a:t>
            </a:r>
            <a:br>
              <a:rPr sz="5400"/>
            </a:b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굴림"/>
              </a:rPr>
              <a:t> —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굴림"/>
              </a:rPr>
              <a:t>Chapter 3 —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560" y="4114440"/>
            <a:ext cx="830556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©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Jong Soo Pa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ata Engineering La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School of Computing Science and Engine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Sungshin Women’s University, Ko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D7C0-F08D-45CA-A45A-6DEC2DFC4E61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71530C-D2C5-43FF-A224-F11C5E8BCA05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스 구조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웨어하우스 데이터의 상주 위치 및 계산 위치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원자 데이터 웨어하우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atomic data warehou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하나의 클라이언트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서버 응용 프로그램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층 구조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fat-client  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그림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3-2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스타 서버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층 구조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그림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3-3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응용 프로그램 서버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층 구조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그림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3-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층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MDD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구조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그림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3-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5C6A-BDE5-48BA-AB57-D8909772D15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A483F9-B1CF-4821-AD6B-4CD633BC6DF5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품질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의 질을 보장하는 것은 가장 중요한 문제 중의 하나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GIG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불량 데이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일관성 유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통합 데이터베이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사용자들이 잠재적인 문제점을 인식한다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기본값과 같은 일관성 있는 정책 개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C8EC-C028-448D-8849-E332B56E10A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2DF05D-6B3F-4FE3-BBBB-38CA76BBB2DD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이주와 로드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이주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소스 데이터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웨어하우스를 초기화하는 문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정기적으로 그것을 갱신하는 문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로드 과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사전 처리 단계 포함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정렬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계산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집계 수행 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 갱신시 수행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7C13-543C-4A27-81FC-B6C09F87028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63EABC-B69F-446B-BA26-F1E2E9D62B44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메타데이터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메터데이터 저장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에 있는 데이터의 다양한 양상을 설명하는 데이터베이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메타데이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관리 메터데이터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administrative metadat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사용자 메터데이터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end-user metadat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4BA4-327F-4147-A27A-52EC81FEECD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335D1F-D826-4B2E-9051-F1E548DF1520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스 관리하기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 관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관리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ata administr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처리 관리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process administr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관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용량 계획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저장 장치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I/O, CPU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용량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보안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백업 사본을 보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처리관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갱신 처리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워크플로 소프트웨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93B6-A4B2-4A67-96E4-2ED32574E19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2FA52B-D595-4B87-85AF-8468CD54C50F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웨어하우스 데이터 스토어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스토어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저장소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기존 트랜잭션 데이터베이스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관계형 또는 비관계형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트랜잭션 데이터베이스에서 얻은 사본 데이터베이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관계형 데이터베이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다차원 데이터베이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사업 측정치의 세부 사항과 합계를 그러한 측정치의 속성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Fact and Dimens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다차원 분석을 위한 속도와 특별 연산자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7E38-D4F4-4FB1-8708-9B7A631F85F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96E9C7-B416-4370-8EC7-C80A081996CE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웨어하우스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DBMS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성능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접근 최적자를 가지고 소프트웨어를 개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Bit-map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등의 색인 구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RDBMS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의 저장장치 구조를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에 맞게 재설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병렬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BMS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와 병렬 하드웨어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2A21-9F9C-468C-8BD8-C55984F7F876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27E3E4-8733-43C7-B656-F5822B1052FC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결론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하우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기법과 기술의 집합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조직체 전체에 걸쳐 분산되었던 정보에 대한 최종 사용자 접근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성공 요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정보 시스템 전문가들과 지식 노동자들의 헌신과 고된 작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훌륭한 웨어하우스의 이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비용 절감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수입 개선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고객 만족 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B544-02AC-4F4F-8977-9E88D0F04E6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ECC201-15D4-4547-8727-4751DD916880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8960" y="3049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Chapter 3: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징에 대한 소개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ahoma"/>
                <a:ea typeface="굴림"/>
              </a:rPr>
              <a:t>Management Information System since 1950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atabase Management Systems since 196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Corporate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다른 데이터베이스 관리 시스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다양한 응용 프로그램을 지원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지식 노동자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통합된 공통 데이터베이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7688-8F6F-4B1D-8BD7-33240BCA5DD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3A770D-6E73-4BB2-8CEE-D813312586F4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3520" y="304560"/>
            <a:ext cx="6782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스의 사용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표준 보고서와 그래프로 된 프리젠테이션을 위해 사용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차원 분석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imensional analysis)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이라는 조회 및 보고 유형을 지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지식 노동자가 점점 세부적으로 그리고 다른 차원 관점에서 조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마이닝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ata mining)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이라는 흥미로운 새로운 기술을 가능케 하는 핵심적인 요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8216-665F-4D02-A3EC-0841BC2F68D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062044-74DA-4CE0-94EE-F46A586A2708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스 대 트랜잭션 시스템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설계 요건과 작동 특성에 있어서 극과 극의 대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설계 목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LTP 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주문 입력 등의 트랜잭션에 관해 조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 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고객과 같은 특정 주제에 관해 조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사용자 수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LTP 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수백 명 – 수천 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 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많아야 이삼백 명 또는 백 명 이하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규모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: 5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GB OLTP DB :: TB DW D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B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설계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적은 수의 열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::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수 많은 열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040C-8860-44DA-A434-5DA26374995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D16F42-AAF5-4431-9892-C52E5A14EFDF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333399"/>
              </a:solidFill>
              <a:latin typeface="Tahoma"/>
              <a:ea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시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LTP 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자체 데이터를 간직하는 짧은 기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 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수년 전까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갱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LTP 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지속적인 갱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 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정기적으로 일괄해서 갱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DAEC-E457-4D4D-8162-E706999A455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BBFC0F-1255-4C75-B10E-601EE893FCAB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무엇이 데이터 웨어하우징을 어렵게 만드는가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관련된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B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의 순전한 크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B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설계 문제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끊임없이 변화하는 요건에 적응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Source DB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가 변경되거나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새로운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source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가 추가 되거나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낡은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source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가 삭제될 수 있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새로운 사용자 요구를 만족하도록 끊임없이 발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과거 데이터뿐만 아니라 여러 출처에서 나온 데이터를 통합하는 문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9474-0C39-4217-A1FB-1667467CCD7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FCE9FC-1440-47A8-8F3E-AC029D1DB074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스 구성요소와 구조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구성요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소스 데이터에 접근하여 그것을 변형시키는 데이터 이주 도구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를 설명하는 메타데이터 저장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신속한 데이터 접근을 제공하는 웨어하우스 데이터 스토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의 검색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형식화 및 분석을 위한 도구 모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웨어하우스 환경을 관리하기 위한 도구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2929-1460-4328-8F14-3AC269A7336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629E53-269E-4696-9955-D8AE7F427FBD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기업 데이터 웨어하우스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조직 전체에 걸쳐 있는 여러 가지 주제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고객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제품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판매량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부동산 또는 직원 등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에 관한 모든 정보를 수집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를 세분화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하위 세트 또는 데이터 마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의 유형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그림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3-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지리적 데이터 마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주제 데이터 마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분석 데이터 마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FCBC-FF52-44D9-8D2E-91CD1662C0E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9B1333-A586-44E2-B080-CB20EC94505D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Data Warehouse Development: A Recommended Approach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609480" y="6019920"/>
            <a:ext cx="77724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374120" y="6019920"/>
            <a:ext cx="635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굴림"/>
              </a:rPr>
              <a:t>Define a high-level corporate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066680" y="3886200"/>
            <a:ext cx="12956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886200"/>
            <a:ext cx="108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Data M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362320" y="41911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14600" y="4191120"/>
            <a:ext cx="0" cy="1828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971800" y="3886200"/>
            <a:ext cx="12952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124080" y="3886200"/>
            <a:ext cx="108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Data M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267080" y="41911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419720" y="4191120"/>
            <a:ext cx="0" cy="1828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3505320" y="4648320"/>
            <a:ext cx="0" cy="1371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1676520" y="4648320"/>
            <a:ext cx="0" cy="1371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981080" y="2209680"/>
            <a:ext cx="175284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486400" y="3657600"/>
            <a:ext cx="198108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257800" y="1447920"/>
            <a:ext cx="243828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733920" y="2666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00600" y="2666880"/>
            <a:ext cx="0" cy="3353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105520" y="4191120"/>
            <a:ext cx="0" cy="1828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4191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676520" y="3200040"/>
            <a:ext cx="106668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3200400" y="1980720"/>
            <a:ext cx="205740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 flipV="1">
            <a:off x="2895120" y="3200040"/>
            <a:ext cx="76212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6477120" y="4952880"/>
            <a:ext cx="0" cy="1067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6400800" y="2666880"/>
            <a:ext cx="0" cy="99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981080" y="220968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Distributed Data Ma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676520"/>
            <a:ext cx="236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ulti-Tier Data Wareho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638680" y="3733920"/>
            <a:ext cx="175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Enterprise Data Wareho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733920" y="533412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Model refin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676520" y="5334120"/>
            <a:ext cx="193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Model refin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9977-C854-4C68-BE18-66E997445734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8E95DA-75F0-439A-BB57-35B23EE1CDB7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19T04:38:52Z</dcterms:created>
  <dc:creator>Jiawei Han</dc:creator>
  <dc:description/>
  <dc:language>en-US</dc:language>
  <cp:lastModifiedBy>박종수</cp:lastModifiedBy>
  <cp:lastPrinted>1999-09-10T20:38:56Z</cp:lastPrinted>
  <dcterms:modified xsi:type="dcterms:W3CDTF">2001-04-03T06:58:27Z</dcterms:modified>
  <cp:revision>200</cp:revision>
  <dc:subject/>
  <dc:title>No Slide Title</dc:title>
</cp:coreProperties>
</file>