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500-6DDF-443F-90E3-5E5EC341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06A-6461-4889-BB43-5716EAEF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9A7-EA08-4558-B07C-2A2CE10F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A72-E0D3-4781-8BA9-C7F5FD74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3608-DD1A-4B85-8698-8469BB8A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88D9-A005-47BC-9A36-BB6AB46E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E2F6-BFA6-4958-A460-D115AEAB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AFF4-507E-433C-8448-E1DF8F45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A7D9-B56E-4916-85C3-300F3F16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E437-EF41-4792-9DD2-46F9C560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00B7-9B6B-45F3-B42B-C730484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236-0568-4A13-B004-E27C4D60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5E24-D3D5-4D68-A598-4B88B40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3EA2-531F-4A2F-80FA-1ABF4AC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3958-C8B7-495F-AC78-59EC6AE0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C061-F083-4E32-AF79-5E822E51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5BE6-65E7-4123-BDC0-1516E7E3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3C9-8699-4E22-91C5-D5CBA46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9EA-59E5-4543-BF31-10CCDFB3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5B1-D81B-41AE-8A5B-2F5D6B90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6B1-7818-4459-BE7E-5D210928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D85-397E-440D-981E-FE7445A4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164-C9D2-4259-BCC8-6485C82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970-51DC-4C52-9320-52640231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67FD-F143-438B-8231-415F817CC504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BF31-D35D-4424-BE61-4BD3DD2A1FD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7465-BADB-4D88-9C77-C90CB8677D92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1DB6-7219-4287-836A-CBDB8CE80FAB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5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가공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로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TT)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A94-68C5-4B6A-BE30-8FC4557682A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B2A07-2BFB-4559-ADBC-DC469311AC2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중요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생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있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정확하고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화된 솔루션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고 하드웨어가 열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이 낮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AD0-BA0A-4EB6-8388-44F795B314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F026D-0E45-410A-BEF8-FE5A08901C1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운영계 시스템과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동시에 구축할 경우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 구축 후에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잘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동시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시간과 경비를 절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공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필요한 장표를 만드는 노력을 대폭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982-217E-474B-B783-83DAEBE643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D2C62-C395-4569-BFB6-9DD1DA3DC4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K*Load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오프라인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으로 데이터 웨어하우스 서버에 있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일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신속하게 로드하는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E46-388D-4F2B-B47C-E34896ABA4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79956-46D6-4FD6-9C6D-F9E179727C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학적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지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년간의 졸업생의 성적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려 사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법론 연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7CF-C1D3-4899-9CBA-90C413478B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2EB25-E249-45A2-A6A7-0F26F90A567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1. 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개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와 다른 별도의 서버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의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trac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forma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송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portation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주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로딩 속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의 형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역할 등에 좌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8F8-2F08-4153-B2B5-EF39F9AB39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671D9-47F0-47DD-9A03-ABEC2EB175E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필요한 최종 테이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원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형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과 요약 테이블을 소스 시스템에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의 로그 파일을 분석하여 사실 테이블과 요약 테이블을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9AC-E7F2-431E-AAE2-BDDF3EA1F4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59719-0A5B-4788-AA4E-553FCF75C2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초기 데이터와 주기적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과거 수년간의 데이터를 보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테이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ord layout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형식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산 시스템에서 중요한 것은 데이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적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 단위 또는 월 단위로 소스 시스템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넘어오는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f lin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409-8521-4AE5-8227-4F3446DC44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64BBE-CE97-46F8-A23D-A29A2DEF740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변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ransform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추출한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사실 테이블이 특정한 포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가 복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코드가 일치하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DB(Hierarchical database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BM IMS/DB : H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근간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올릴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주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C26-6DDE-4B2E-BDC8-6B119DFACD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DDEE7-2906-4CF1-9A1F-30DFC62E60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정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clean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들어가는 데이터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(dimension ID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해당하는 값이 차원 테이블과 상이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비정상적인 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한 데이터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D(Operational Data Store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이용한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 작업을 용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의 변화에 신속 대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의 문제에 신속 복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F54-931D-4432-8A7B-66D97247F0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BF65A-08D7-455A-8BB8-DE673E2A3C3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f 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프라인 방식의 개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과 순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시 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추출 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n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라클 분산 옵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 distributed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F65-FDCD-4C38-AACC-524420D450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06A79-E3B7-46B2-B1BF-7C35117336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공유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-tim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원하는 은행에서 많이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rred I/O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로그 파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특정한 데이터가 바뀌면 로그 파일을 만들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주기적으로 데이터를 가져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087-204D-4726-9AD7-3784C57ECE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C9A9D-40DF-429B-BBD6-F4049E92820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추출 데이터의 정확성 보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장하는 방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필드의 값을 합산 후 대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시 에러가 생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러의 원인을 밝히고 교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D21-0C25-488E-B789-9C3951989C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6643C-CB90-4592-A931-F033472D6D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4-16T05:27:39Z</dcterms:modified>
  <cp:revision>227</cp:revision>
  <dc:subject/>
  <dc:title>제5장 데이터의 추출, 가공, 로드(ETT)</dc:title>
</cp:coreProperties>
</file>