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BD55-4A46-4DF7-93FE-0368AD1AE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272D-1229-4338-B65A-4FB038CB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D10F-1721-4818-A524-F45D10120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97AA-8924-44C0-A728-3650C4122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9E28-B622-4A19-B3AE-9A8D92724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87DC-B360-4FB1-932B-36C82FCF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E89C9-5F50-4D35-91C8-D61E630B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9268-E595-4D08-A582-810B878E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1268-5690-45ED-89E7-66AA1133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8B1F-0BA9-48F1-B8A5-33067994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E6C9-5D04-44AF-AE0D-6E651824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A658-47DB-472B-ABBF-37D24E0B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8360-EEB5-4793-878F-E6709DC9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DEC2-2650-4738-A2ED-19EF3D07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F0C40-2384-4513-BC77-BAA46E0E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99E3-3B89-4ADE-9702-678811EB7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8ABF-380A-4F31-A384-90FFAF618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A44F-7A75-4B73-85FB-876A3E0B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7AFD-39AD-4598-B203-F47001A5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95AE-6D18-4C9C-B54C-B84B45AA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650C-139F-49D4-A2D1-91500208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A957-9486-409D-BFB8-132B7D64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BC5B-D358-4A65-9F23-ED10B859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898C-93B2-4A24-A37D-F94F7E3D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A39B-C991-448D-9158-835EF66036FB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5AEB-E940-47CA-90EA-FC2A6326133A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CBC6-1A2D-426F-A1DE-3981FD52C0E9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BBCD-2080-46B5-BA8D-4C0E5D94A915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6761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를 위한 데이터베이스 설계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: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기본요건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50292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8778-C6C0-44DB-A119-1FD26259579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6BE8FF-EB8D-4D1D-9F0A-4AC7F23A1CD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신뢰할 수 있는 데이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관성 있는 해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두번째 중요한 요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첫번째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순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는 일괄 형식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atch format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으로 적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클린징 또는 변환 과정이 필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무결성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참조 무결성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형 스키마에 함축된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차 키 외부 키 참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rimary key foreign key referen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다음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l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결합 경로의 명확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내부에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 Operatio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F7A1-6B07-4300-B70B-B193B0E0F77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86DF03-5547-4F55-B5E6-3A0E38D25DE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9_3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001000" cy="613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BC57-8D44-4200-9A43-A86EE8DC534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1AC43A-3FAE-407C-89AB-DFBC02CA1CD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조회 처리 속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세 번째 중요한 요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분석가들의 조회를 신속히 처리하고 그들의 사고 흐름을 따라잡을 수 있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안정된 고성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ko-KR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</a:rPr>
              <a:t>서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필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설계 시에 고려해야 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회 처리 속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각기 다른 표 열 위에 구축된 색인의 유형과 색인 수의 함수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각 차원 표의 모든 열마다 색인을 붙이는 것이 훌륭한 전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각기 다른 차원에 대해 각기  다른 유형의 색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ED92-85AD-4A09-AE16-E48D9D8AD82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40FF2C-3828-43CA-8BA9-C55B2B497E8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적재 처리와 성능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네 번째 중요한 요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설계에서 더 결정적인 측정 기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에서 웨어하우스로 데이터를 적재하는 시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몇 시간 대 며칠의 문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적재 속도는 웨어하우스 설계의 다른 기본 원칙을 고수하면 얻을 수 있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모델링시 성형 스키마 스타일 단순성의 원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표 구조의 단순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의 깨끗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참조 무결성 등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AA34-ED9A-48F6-B049-7111E16D285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322E03-1350-4298-911C-C5F5F901E14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성형의 갖가지 형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스키마의 점증하는 복잡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utboard tables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ulti-fact stars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 famil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B1AD-B36C-4F6C-8DAA-3ADD0D357EC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761A9B-7688-4AD3-821A-07F31720BD2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Outboard Tab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imension Tabl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외부 키 참조를 통해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utboard tabl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을 작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또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utrigger 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라 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내부 차원에 너무 많은 부담을 주게 될 데이터를 격리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-&gt;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설계 단순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9-4 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다음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DFD4-549B-48FE-8F1A-ED9D2F1B4D9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49BCB0-234A-4E1D-840B-7E89CFA8526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9_4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848720" cy="6058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330B-5DA1-4FF2-8DB5-21E90C221299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1725FF-39D9-4F5D-BBC9-365C2907A8C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사실 표 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치 체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대기업 전반에 걸쳐 종종 가치 체인의 부분들을 형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조직체를 통틀어 제품 또는 서비스의 흐름을 반영하는 일련의 연결된 업무 작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련의 공유 차원들을 갖춘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사실 “군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family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다음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sl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72BE-F2FE-4E45-8486-84DD3E6BA25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8205CF-8E85-4A37-9037-A15D5F4367A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9_5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7696080" cy="659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31FF-6EAE-4E38-80A4-CEF751616EF8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21777E-8775-424A-974A-B2E6171F2F9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다성형 사실 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차원 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차 키의 어떤 조합이 사실 표에서 둘 이상의 행을 가리킬 경우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-&gt;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ulti-star sch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9-6 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다음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F22D-2B81-418C-9167-84AEDC29694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EECB1C-7F2F-4D54-AA2E-B652986B7B6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Chapter 9 :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베이스 설계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: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기본요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세가지 규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간단하게 하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간단하게 하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간단하게 하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스키마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chema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로 시각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속도 문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 조회 시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리자 데이터 적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 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가 변경되지 않고 무결성이 엄격히 유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B4D8-1A1A-4A32-9587-87D22EDC0FD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F38FC0-542E-4E9D-BD76-3B7BCDADE71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9_6" descr=""/>
          <p:cNvPicPr/>
          <p:nvPr/>
        </p:nvPicPr>
        <p:blipFill>
          <a:blip r:embed="rId1"/>
          <a:stretch/>
        </p:blipFill>
        <p:spPr>
          <a:xfrm>
            <a:off x="1295280" y="0"/>
            <a:ext cx="6629400" cy="6532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727B-3FDA-4BB2-808E-7975BC58E019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3726B8-DFAB-4D5B-AE84-B1249D65463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Conceptual Modeling of Data Warehou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485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odeling data warehouses: dimensions &amp; meas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2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ea typeface="굴림"/>
              </a:rPr>
              <a:t>Star schem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000" spc="-1" strike="noStrike">
                <a:solidFill>
                  <a:srgbClr val="006666"/>
                </a:solidFill>
                <a:latin typeface="Tahoma"/>
                <a:ea typeface="굴림"/>
              </a:rPr>
              <a:t>A fact table in the middle connected to a set of dimension tabl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2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ea typeface="굴림"/>
              </a:rPr>
              <a:t>Snowflake schem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:  </a:t>
            </a:r>
            <a:r>
              <a:rPr b="0" lang="en-US" sz="2000" spc="-1" strike="noStrike">
                <a:solidFill>
                  <a:srgbClr val="006666"/>
                </a:solidFill>
                <a:latin typeface="Tahoma"/>
                <a:ea typeface="굴림"/>
              </a:rPr>
              <a:t>A refinement of star schema where some dimensional hierarchy is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굴림"/>
              </a:rPr>
              <a:t>normalized</a:t>
            </a:r>
            <a:r>
              <a:rPr b="0" lang="en-US" sz="2000" spc="-1" strike="noStrike">
                <a:solidFill>
                  <a:srgbClr val="006666"/>
                </a:solidFill>
                <a:latin typeface="Tahoma"/>
                <a:ea typeface="굴림"/>
              </a:rPr>
              <a:t> into a set of smaller dimension tab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, forming a shape similar to snowfl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ea typeface="굴림"/>
              </a:rPr>
              <a:t>Fact constellatio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:  </a:t>
            </a:r>
            <a:r>
              <a:rPr b="0" lang="en-US" sz="2000" spc="-1" strike="noStrike">
                <a:solidFill>
                  <a:srgbClr val="006666"/>
                </a:solidFill>
                <a:latin typeface="Tahoma"/>
                <a:ea typeface="굴림"/>
              </a:rPr>
              <a:t>Multiple fact tables share dimension tab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, viewed as a collection of stars, therefore called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굴림"/>
              </a:rPr>
              <a:t>galaxy schem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or fact constell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5217-1B89-404B-91A2-350A08F24E0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D6E1A1-72E9-463E-B7FC-548D1B5244C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9200" y="782640"/>
            <a:ext cx="72266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xample of Star Schem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419880" y="1676160"/>
            <a:ext cx="249552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548160" y="316224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7800" y="1295280"/>
            <a:ext cx="1812600" cy="2152800"/>
            <a:chOff x="307800" y="1295280"/>
            <a:chExt cx="1812600" cy="2152800"/>
          </a:xfrm>
        </p:grpSpPr>
        <p:sp>
          <p:nvSpPr>
            <p:cNvPr id="140" name=""/>
            <p:cNvSpPr/>
            <p:nvPr/>
          </p:nvSpPr>
          <p:spPr>
            <a:xfrm>
              <a:off x="307800" y="1709640"/>
              <a:ext cx="1812600" cy="173844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_of_the_wee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quar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8520" y="1295280"/>
              <a:ext cx="636120" cy="39744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606360" y="3867120"/>
            <a:ext cx="1902600" cy="1873800"/>
            <a:chOff x="6606360" y="3867120"/>
            <a:chExt cx="1902600" cy="1873800"/>
          </a:xfrm>
        </p:grpSpPr>
        <p:sp>
          <p:nvSpPr>
            <p:cNvPr id="143" name=""/>
            <p:cNvSpPr/>
            <p:nvPr/>
          </p:nvSpPr>
          <p:spPr>
            <a:xfrm>
              <a:off x="6606360" y="4276800"/>
              <a:ext cx="1902600" cy="1464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tre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province_or_stre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oun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06720" y="3867120"/>
              <a:ext cx="1005120" cy="397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448800" y="2279520"/>
            <a:ext cx="186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ales Fa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48160" y="269712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2743200"/>
            <a:ext cx="2057400" cy="3974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ime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76600" y="3192480"/>
            <a:ext cx="2028960" cy="397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item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48160" y="3627360"/>
            <a:ext cx="206532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76240" y="3638520"/>
            <a:ext cx="2080800" cy="397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branch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48160" y="409104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75160" y="4114800"/>
            <a:ext cx="2077920" cy="397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location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48160" y="455616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75880" y="4606920"/>
            <a:ext cx="200196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units_s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48160" y="5021280"/>
            <a:ext cx="206532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76240" y="5051520"/>
            <a:ext cx="200772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dollars_s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48160" y="5486400"/>
            <a:ext cx="206532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57880" y="5497560"/>
            <a:ext cx="200772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vg_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5905440"/>
            <a:ext cx="1219320" cy="397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771640" y="4781160"/>
            <a:ext cx="770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752560" y="5324040"/>
            <a:ext cx="789120" cy="56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752560" y="5692680"/>
            <a:ext cx="90504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328840" y="3949560"/>
            <a:ext cx="1193760" cy="7351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2133360" y="2514240"/>
            <a:ext cx="1446120" cy="48564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80000" y="4356000"/>
            <a:ext cx="1040040" cy="38736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580000" y="2709360"/>
            <a:ext cx="1077840" cy="67788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613200" y="1603080"/>
            <a:ext cx="1431720" cy="1910880"/>
            <a:chOff x="6613200" y="1603080"/>
            <a:chExt cx="1431720" cy="1910880"/>
          </a:xfrm>
        </p:grpSpPr>
        <p:sp>
          <p:nvSpPr>
            <p:cNvPr id="168" name=""/>
            <p:cNvSpPr/>
            <p:nvPr/>
          </p:nvSpPr>
          <p:spPr>
            <a:xfrm>
              <a:off x="6613200" y="2049840"/>
              <a:ext cx="1431720" cy="14641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23440" y="1603080"/>
              <a:ext cx="724680" cy="459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844200" y="3886200"/>
            <a:ext cx="1499760" cy="1383120"/>
            <a:chOff x="844200" y="3886200"/>
            <a:chExt cx="1499760" cy="1383120"/>
          </a:xfrm>
        </p:grpSpPr>
        <p:sp>
          <p:nvSpPr>
            <p:cNvPr id="171" name=""/>
            <p:cNvSpPr/>
            <p:nvPr/>
          </p:nvSpPr>
          <p:spPr>
            <a:xfrm>
              <a:off x="924480" y="4353840"/>
              <a:ext cx="1419480" cy="915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44200" y="3886200"/>
              <a:ext cx="1011240" cy="459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9039-7454-485B-835F-5B161064374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CE8C78-0327-414C-8193-1D797160F04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49200" y="782640"/>
            <a:ext cx="72266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xample of Snowflake Schem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3317760" y="310500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07800" y="1295280"/>
            <a:ext cx="1812600" cy="2152800"/>
            <a:chOff x="307800" y="1295280"/>
            <a:chExt cx="1812600" cy="2152800"/>
          </a:xfrm>
        </p:grpSpPr>
        <p:sp>
          <p:nvSpPr>
            <p:cNvPr id="176" name=""/>
            <p:cNvSpPr/>
            <p:nvPr/>
          </p:nvSpPr>
          <p:spPr>
            <a:xfrm>
              <a:off x="307800" y="1709640"/>
              <a:ext cx="1812600" cy="173844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_of_the_wee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quar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8520" y="1295280"/>
              <a:ext cx="636120" cy="39744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869440" y="3809880"/>
            <a:ext cx="1369800" cy="1321200"/>
            <a:chOff x="5869440" y="3809880"/>
            <a:chExt cx="1369800" cy="1321200"/>
          </a:xfrm>
        </p:grpSpPr>
        <p:sp>
          <p:nvSpPr>
            <p:cNvPr id="179" name=""/>
            <p:cNvSpPr/>
            <p:nvPr/>
          </p:nvSpPr>
          <p:spPr>
            <a:xfrm>
              <a:off x="5870160" y="4215600"/>
              <a:ext cx="1369080" cy="915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tre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69440" y="3809880"/>
              <a:ext cx="1005120" cy="397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3272400" y="2152800"/>
            <a:ext cx="186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ales Fa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17760" y="263988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51240" y="2685960"/>
            <a:ext cx="2057400" cy="3974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ime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46560" y="3135240"/>
            <a:ext cx="2028960" cy="397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item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7760" y="3570120"/>
            <a:ext cx="206532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45840" y="3581280"/>
            <a:ext cx="2080800" cy="397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branch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17760" y="403380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45120" y="4057560"/>
            <a:ext cx="2077920" cy="397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location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7760" y="449892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45480" y="4549680"/>
            <a:ext cx="200196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units_s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17760" y="4964040"/>
            <a:ext cx="206532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45840" y="4994280"/>
            <a:ext cx="200772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dollars_s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17760" y="5429160"/>
            <a:ext cx="206532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27480" y="5440320"/>
            <a:ext cx="200772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vg_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5867280"/>
            <a:ext cx="1218960" cy="397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590920" y="4723920"/>
            <a:ext cx="769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571840" y="5267160"/>
            <a:ext cx="788760" cy="5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571840" y="5635800"/>
            <a:ext cx="90468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133720" y="3886200"/>
            <a:ext cx="1193760" cy="7351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2133360" y="2514240"/>
            <a:ext cx="1446120" cy="48564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4267080"/>
            <a:ext cx="457200" cy="5335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334120" y="2819160"/>
            <a:ext cx="609480" cy="53316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946840" y="1526760"/>
            <a:ext cx="1367640" cy="1910880"/>
            <a:chOff x="5946840" y="1526760"/>
            <a:chExt cx="1367640" cy="1910880"/>
          </a:xfrm>
        </p:grpSpPr>
        <p:sp>
          <p:nvSpPr>
            <p:cNvPr id="204" name=""/>
            <p:cNvSpPr/>
            <p:nvPr/>
          </p:nvSpPr>
          <p:spPr>
            <a:xfrm>
              <a:off x="5946840" y="1973520"/>
              <a:ext cx="1367640" cy="14641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56360" y="1526760"/>
              <a:ext cx="724680" cy="459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15600" y="3886200"/>
            <a:ext cx="1499760" cy="1383120"/>
            <a:chOff x="615600" y="3886200"/>
            <a:chExt cx="1499760" cy="1383120"/>
          </a:xfrm>
        </p:grpSpPr>
        <p:sp>
          <p:nvSpPr>
            <p:cNvPr id="207" name=""/>
            <p:cNvSpPr/>
            <p:nvPr/>
          </p:nvSpPr>
          <p:spPr>
            <a:xfrm>
              <a:off x="695880" y="4353840"/>
              <a:ext cx="1419480" cy="915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5600" y="3886200"/>
              <a:ext cx="1011240" cy="459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7699320" y="1984680"/>
            <a:ext cx="1441080" cy="984960"/>
            <a:chOff x="7699320" y="1984680"/>
            <a:chExt cx="1441080" cy="984960"/>
          </a:xfrm>
        </p:grpSpPr>
        <p:sp>
          <p:nvSpPr>
            <p:cNvPr id="210" name=""/>
            <p:cNvSpPr/>
            <p:nvPr/>
          </p:nvSpPr>
          <p:spPr>
            <a:xfrm>
              <a:off x="7708680" y="2328480"/>
              <a:ext cx="1431720" cy="641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99320" y="1984680"/>
              <a:ext cx="1165320" cy="459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 flipV="1">
            <a:off x="7238880" y="2971440"/>
            <a:ext cx="533520" cy="3049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7547040" y="4800600"/>
            <a:ext cx="1712520" cy="1471680"/>
            <a:chOff x="7547040" y="4800600"/>
            <a:chExt cx="1712520" cy="1471680"/>
          </a:xfrm>
        </p:grpSpPr>
        <p:sp>
          <p:nvSpPr>
            <p:cNvPr id="214" name=""/>
            <p:cNvSpPr/>
            <p:nvPr/>
          </p:nvSpPr>
          <p:spPr>
            <a:xfrm>
              <a:off x="7550640" y="5206320"/>
              <a:ext cx="1708920" cy="1065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province_or_stre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oun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547040" y="4800600"/>
              <a:ext cx="565920" cy="397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7162920" y="5105520"/>
            <a:ext cx="457200" cy="53316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ACCE-CBC7-43E8-841F-051B090467D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E045C4-5730-4C61-8AEC-06485F17E28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64468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xample of Fact Constell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2895480" y="3048120"/>
            <a:ext cx="1608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32200" y="1219320"/>
            <a:ext cx="1631520" cy="1967040"/>
            <a:chOff x="232200" y="1219320"/>
            <a:chExt cx="1631520" cy="1967040"/>
          </a:xfrm>
        </p:grpSpPr>
        <p:sp>
          <p:nvSpPr>
            <p:cNvPr id="220" name=""/>
            <p:cNvSpPr/>
            <p:nvPr/>
          </p:nvSpPr>
          <p:spPr>
            <a:xfrm>
              <a:off x="232560" y="1633680"/>
              <a:ext cx="1631160" cy="15526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_of_the_we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mon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qua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y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2200" y="1219320"/>
              <a:ext cx="593640" cy="36684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5108760" y="4038480"/>
            <a:ext cx="1712160" cy="1718640"/>
            <a:chOff x="5108760" y="4038480"/>
            <a:chExt cx="1712160" cy="1718640"/>
          </a:xfrm>
        </p:grpSpPr>
        <p:sp>
          <p:nvSpPr>
            <p:cNvPr id="223" name=""/>
            <p:cNvSpPr/>
            <p:nvPr/>
          </p:nvSpPr>
          <p:spPr>
            <a:xfrm>
              <a:off x="5112000" y="4447800"/>
              <a:ext cx="1708920" cy="1309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tre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province_or_stre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oun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08760" y="4038480"/>
              <a:ext cx="924120" cy="366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740320" y="2133720"/>
            <a:ext cx="1701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Sales Fact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95480" y="2590920"/>
            <a:ext cx="1600200" cy="45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95480" y="2666880"/>
            <a:ext cx="1602000" cy="3668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time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95480" y="3124080"/>
            <a:ext cx="1600200" cy="366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item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95480" y="3505320"/>
            <a:ext cx="160020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95480" y="3505320"/>
            <a:ext cx="1600200" cy="641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branch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3962520"/>
            <a:ext cx="1600200" cy="45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90800" y="3981600"/>
            <a:ext cx="1600560" cy="366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location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60560" y="4419720"/>
            <a:ext cx="1635120" cy="45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91880" y="4473720"/>
            <a:ext cx="158868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units_s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60560" y="4876920"/>
            <a:ext cx="1635120" cy="46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2960" y="4917960"/>
            <a:ext cx="159300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dollars_s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60560" y="5334120"/>
            <a:ext cx="1635120" cy="46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72080" y="5364000"/>
            <a:ext cx="159624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avg_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95280" y="5715000"/>
            <a:ext cx="1219320" cy="366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084400" y="4647960"/>
            <a:ext cx="770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065320" y="5190840"/>
            <a:ext cx="789120" cy="56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065320" y="5559480"/>
            <a:ext cx="90504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641600" y="3816360"/>
            <a:ext cx="1193760" cy="7351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1905120" y="2362320"/>
            <a:ext cx="914400" cy="38088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0" y="4267080"/>
            <a:ext cx="533520" cy="38124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495680" y="2743200"/>
            <a:ext cx="762120" cy="52560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186520" y="1527480"/>
            <a:ext cx="1293120" cy="1725120"/>
            <a:chOff x="5186520" y="1527480"/>
            <a:chExt cx="1293120" cy="1725120"/>
          </a:xfrm>
        </p:grpSpPr>
        <p:sp>
          <p:nvSpPr>
            <p:cNvPr id="248" name=""/>
            <p:cNvSpPr/>
            <p:nvPr/>
          </p:nvSpPr>
          <p:spPr>
            <a:xfrm>
              <a:off x="5186520" y="1943280"/>
              <a:ext cx="1293120" cy="1309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_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39240" y="1527480"/>
              <a:ext cx="631800" cy="398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10320" y="3962520"/>
            <a:ext cx="1279440" cy="1216440"/>
            <a:chOff x="310320" y="3962520"/>
            <a:chExt cx="1279440" cy="1216440"/>
          </a:xfrm>
        </p:grpSpPr>
        <p:sp>
          <p:nvSpPr>
            <p:cNvPr id="251" name=""/>
            <p:cNvSpPr/>
            <p:nvPr/>
          </p:nvSpPr>
          <p:spPr>
            <a:xfrm>
              <a:off x="310320" y="4356360"/>
              <a:ext cx="1279440" cy="8226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27960" y="3962520"/>
              <a:ext cx="803880" cy="368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7012080" y="2495520"/>
            <a:ext cx="1608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6560" y="1581120"/>
            <a:ext cx="20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Shipping Fact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012080" y="2038320"/>
            <a:ext cx="160020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012080" y="2114640"/>
            <a:ext cx="1601640" cy="3668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time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12080" y="2571840"/>
            <a:ext cx="1600200" cy="366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item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012080" y="2952720"/>
            <a:ext cx="160020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012080" y="2952720"/>
            <a:ext cx="1600200" cy="366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shipper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12080" y="3409920"/>
            <a:ext cx="160020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007760" y="3429000"/>
            <a:ext cx="1599480" cy="366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from_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77160" y="3867120"/>
            <a:ext cx="1635120" cy="45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07760" y="3943440"/>
            <a:ext cx="1564200" cy="366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to_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977160" y="4324320"/>
            <a:ext cx="1635120" cy="46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09200" y="4365720"/>
            <a:ext cx="158076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dollars_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77160" y="4781520"/>
            <a:ext cx="1635120" cy="46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990840" y="4811760"/>
            <a:ext cx="163008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units_shipp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6629400" y="1523520"/>
            <a:ext cx="380880" cy="68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2742840" y="152388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1905120" y="1523880"/>
            <a:ext cx="914400" cy="457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6553080" y="2666880"/>
            <a:ext cx="533520" cy="76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6248160" y="3657600"/>
            <a:ext cx="685800" cy="762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477120" y="419112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991720" y="320040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7618320" y="5410080"/>
            <a:ext cx="1332360" cy="1458720"/>
            <a:chOff x="7618320" y="5410080"/>
            <a:chExt cx="1332360" cy="1458720"/>
          </a:xfrm>
        </p:grpSpPr>
        <p:sp>
          <p:nvSpPr>
            <p:cNvPr id="276" name=""/>
            <p:cNvSpPr/>
            <p:nvPr/>
          </p:nvSpPr>
          <p:spPr>
            <a:xfrm>
              <a:off x="7625520" y="5802840"/>
              <a:ext cx="1325160" cy="10659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hipper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hipper_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hipper_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618320" y="5410080"/>
              <a:ext cx="854280" cy="368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hipp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 flipH="1">
            <a:off x="8610120" y="4800600"/>
            <a:ext cx="381240" cy="10666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610480" y="32004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5866920" y="5790960"/>
            <a:ext cx="1752840" cy="68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10A5-2090-4EB3-B41A-4E470D8B756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049BB8-EF40-4669-9424-0154A8BC553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요약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본적인 설계 요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순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일관성과 정확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회 처리 속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적재 속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성공적인 설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비스를 제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첫번째 설계는 매우 기본적이 되게 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들의 의견을 들은 뒤 반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일관성 있고 가치 있는 정보 제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1AD0-0661-4423-8D8D-04519A5173A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4B2F95-7996-4AEB-B3B7-AD5ECBEBEA2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데이터베이스의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4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가지 기본적인 요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스키마는 간단해야 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는 깨끗하고 일관성이 있으며 정확해야 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조회처리는 신속해야 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를 데이터베이스에 상당히 빠르게 적재할 수 있어야 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BDFF-8A33-4062-8C3F-C931CA1D1A6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D5D507-E4DF-44B4-8D3E-85F082FB7CD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3000" y="685800"/>
            <a:ext cx="779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순환적 결합 경로를 가진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OLTP </a:t>
            </a: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스키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9_1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467840" cy="497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2D34-9134-4518-AC98-B59A6E5CFB6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BB46F2-95F8-420F-AB13-2FBF8EC5080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단순성 </a:t>
            </a: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Schema</a:t>
            </a: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의</a:t>
            </a: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 기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종 사용자들이 편리하도록 설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A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나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MIS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요원들에게 이익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되도록 설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Sch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두 개의 표를 결합하는 지정된 경로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 Operatio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설계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가의 업무 요건들을 평가 – “차원”을 파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재 사용되고 있는 보고서들을 분석 –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 집단이 사용하는 “표”를 분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99"/>
                </a:solidFill>
                <a:latin typeface="Tahoma"/>
                <a:ea typeface="굴림"/>
              </a:rPr>
              <a:t>실제 차원과 업무 자체의 조건에 바탕을 둔 직관적인 데이터 모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2928-CB17-407D-8F24-C727410D57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9BEDB7-D7C2-4E19-806C-802339B0D83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성형 스키마의 구성요소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단순하고 직관적이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하나의 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Sta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에 관한 모든 수집된 사실과 숫자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별의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뾰족점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차원들을 설명하는 일군의 표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9-2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실 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차원 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57D4-8228-4A7D-B13A-81F134248F4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FF2269-7DE6-44E1-B7C6-CC38FD03376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43000" y="685800"/>
            <a:ext cx="779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간단한 성형 스키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9_2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010280" cy="545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E717-863A-41A1-95C7-AEA548139B4E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C6CDC0-B88E-4338-97C4-6CD0A34128A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사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act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장 규모가 큰 – 수백만 개 또는 수억 개의 행이 포함된 – 중앙에 있는 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측정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업무 값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디스크 공간의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95%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차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뼈만 추린” 대부분 숫자로 된 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에 저장된 사실들은 분석가가 추적할 필요가 있는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실제 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판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예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선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회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예약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입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험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레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CABD-6518-4D2F-9E76-684729870A8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B9556C-D755-4F8E-911A-8C3956CB241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차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내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의 “기정 사실”일 가능성이 많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 보고서의 행 제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숫자 데이터보다는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문자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사용하는 경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가 필요로 하는 디스크 공간은 비교적 적게 차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또는 기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제품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또는 품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상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판매업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구통계학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홍보활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77BB-CF48-4AFF-8569-E54223C609B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A56F9A-6A03-47E9-BE2D-6ACA380EFA4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iawei Han</dc:creator>
  <dc:description/>
  <dc:language>en-US</dc:language>
  <cp:lastModifiedBy>Jong Soo Park</cp:lastModifiedBy>
  <cp:lastPrinted>1999-09-10T20:38:56Z</cp:lastPrinted>
  <dcterms:modified xsi:type="dcterms:W3CDTF">2002-06-03T08:22:04Z</dcterms:modified>
  <cp:revision>301</cp:revision>
  <dc:subject/>
  <dc:title>No Slide Title</dc:title>
</cp:coreProperties>
</file>