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627-8D9D-4EE3-B015-03769AA9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32C-5A92-40ED-96F6-095EA0A3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E7B-AD92-4959-AF09-A45355B9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223-E4C6-4056-849D-B03B9D78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0602-8CE0-4783-B862-BEB66492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48F1-765B-4C5D-AAFD-BB84C255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8CDC-4524-4304-9F2F-049E5355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62B3-A3DA-46AE-A402-A2C8477A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D2FC-2446-4942-9602-41E6B0E2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0CF3-49F7-4A0A-B9CE-ACD0798B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27D8-6848-4206-8F4E-94C4EE77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265-12F7-4922-AEF7-559CB446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FD85-357A-4838-B808-6185BE5E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DD1A-C6FA-4667-8E80-F1828064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6CFE-6B1A-4AC2-808B-83E01F80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40BC-9FB0-47A5-BF19-A05E0AE3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9CBC-3EE9-4FAC-A73B-E149E74D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228-29FC-4D4A-8228-A1CDB1AC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D64-B2A3-4654-80D1-1DB89897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D50-CD56-4628-8A9D-1D850D49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D4A-6062-4706-97FE-0EA6D0D1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8A6-63E0-4769-B3A6-F355B6F8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308-4F3C-45F4-AA80-15BCB813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E63-0B03-42D6-B684-D210EF8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15238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B65F-17A8-4CA2-B369-C098E1E429D4}" type="datetime3"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286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06E3-3727-46BD-AFDB-4CE1347CB5AB}" type="slidenum"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F098-746B-4270-A180-7088270658CC}" type="datetime3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F939-B936-425D-9D89-9BD54B2CB21C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2320" y="655308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5B42-3A9F-492B-8837-44724F90AC26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Data Mining: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Concepts and Techniqu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— Slides for Textbook —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— Chapter 1 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Jiawei Han and Micheline Ka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lligent Database Systems Research L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hool of Computing Sci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imon Fraser University, C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B4A-F987-49D9-AE3C-C0B059B7AE8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F3FC4-95B2-4BD1-88EC-54EE651C8F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ere are the data sources for analys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dit card transactions, loyalty cards, discount coupons, customer complaint calls, plus (public) lifestyle stud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 clusters of “model” customers who share the same characteristics: interest, income level, spending habit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termine customer purchasing patterns ove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version of single to a joint bank account: marriag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ross-market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s/co-relations between product s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 based on the association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9A0-8B36-42F9-9895-9ECE4AB148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6EBBB-EBCF-494E-BD05-8DBBCE7E930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ustomer prof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can tell you what types of customers buy what products (clustering or classific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dentifying custom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dentifying the best products for different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prediction to find what factors will attract new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ovides summary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various multidimensional summary rep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tatistical summary information (data central tendency and vari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87D-EA1C-4E21-AEBF-1D1F4F5314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BC88E-213C-4C21-BBF8-841A787BC04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orporate Analysis and Risk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Finance planning and asset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sh flow analysis and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tingent claim analysis to evaluate asse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oss-sectional and time series analysis (financial-ratio, trend analysi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ource plann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ummarize and compare the resources and spen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mpeti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onitor competitors and market direc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roup customers into classes and a class-based pricing proced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t pricing strategy in a highly competitive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0EF-3018-4A8C-A36C-CCC7624E2D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116B3-1D5B-47EF-85A9-72EE09AB4E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widely used in health care, retail, credit card services, telecommunications (phone card fraud)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historical data to build models of fraudulent behavior and use data mining to help identify similar insta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uto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a group of people who stage accidents to collect on insu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ney launde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suspicious money transactions (US Treasury's Financial Crimes Enforcement Network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edical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professional patients and ring of doctors and ring of re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EA3-8330-41FE-9FC9-37A859EB38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38FAE-F373-4BE7-AA71-A7AAAE0F987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inappropriate medical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stralian Health Insurance Commission identifies that in many cases blanket screening tests were requested  (save Australian $1m/yr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telephone frau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elephone call model: destination of the call, duration, time of day or week.  Analyze patterns that deviate from an expected nor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British Telecom identified discrete groups of callers with frequent intra-group calls, especially mobile phones, and broke a multimillion dollar frau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nalysts estimate that 38% of retail shrink is due to dishonest employ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62F-BD54-47F9-8F12-8282A3FF0E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4494D-51F7-4CA6-BCDD-BF3A3CEB740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Advanced Scout analyzed NBA game statistics (shots blocked, assists, and fouls) to gain competitive advantage for New York Knicks and Miami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stron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JPL and the Palomar Observatory discovered 22 quasars with the help of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net Web Surf-A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Surf-Aid applies data mining algorithms to Web access logs for market-related pages to discover customer preference and behavior pages, analyzing effectiveness of Web marketing, improving Web site organization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917-B019-44EC-81B2-300841E9B0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B63D7-0753-4FE0-A2D6-F09719AEA6B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KDD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the core of knowledge discovery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81680" y="15998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05520" y="2666880"/>
            <a:ext cx="99036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76720" y="37335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56272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63868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63244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7150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60958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760" y="4876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6240" y="54100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6248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11480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572000"/>
            <a:ext cx="685800" cy="6858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3429000"/>
            <a:ext cx="457200" cy="4572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1981080"/>
            <a:ext cx="75960" cy="609840"/>
          </a:xfrm>
          <a:prstGeom prst="rect">
            <a:avLst/>
          </a:prstGeom>
          <a:solidFill>
            <a:srgbClr val="ff5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2209680"/>
            <a:ext cx="7632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133720"/>
            <a:ext cx="76320" cy="45720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362320"/>
            <a:ext cx="76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590920"/>
            <a:ext cx="685800" cy="7596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362320"/>
            <a:ext cx="152280" cy="22860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086600" y="990720"/>
            <a:ext cx="17431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nowledg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2511000" y="3276720"/>
            <a:ext cx="22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Task-relevant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40528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5280" y="25909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굴림"/>
              </a:rPr>
              <a:t>Data M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4560" y="167652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attern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12408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2057400"/>
            <a:ext cx="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962160" y="525780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62520" y="4343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5257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86000" y="60958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905120" y="5409720"/>
            <a:ext cx="380880" cy="685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54100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657600" y="4191120"/>
            <a:ext cx="0" cy="12189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6BF-8654-42C0-9D4D-F0D2C2E892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EE73D-7818-4210-A3AC-24FA1DE4331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teps of a KDD Proces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Learning the application domai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levant prior knowledge and goals of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ating a target data set: data se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clea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and preprocessing: (may take 60% of effort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reduction and transfor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ind useful features, dimensionality/variable reduction, invariant re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functions of data min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mmarization, classification, regression, association, cluster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the mining algorithm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mi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search for patterns of inte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Pattern evaluation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visualization, transformation, removing redundant pattern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C22-9F19-4B1E-901E-E8AC96B3E7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BA3FE-8CE6-452A-A386-71159700399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Business Intellige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5029200"/>
          </a:xfrm>
          <a:prstGeom prst="flowChartExtra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58672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25780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49568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7339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954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352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7960" y="1509840"/>
            <a:ext cx="191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Increasing pot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to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 deci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0440" y="19558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End 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54400" y="2946240"/>
            <a:ext cx="9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3320" y="3784680"/>
            <a:ext cx="8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03600" y="5689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3960" y="2057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eci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8680" y="299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7440" y="33526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Visualization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1440" y="37720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M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2360" y="40384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Information Disco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572000"/>
            <a:ext cx="1889280" cy="36828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Expl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7280" y="556272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OLAP, M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1240" y="48006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Statistical Analysis, Querying an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480" y="525780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Warehouses / Data M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1680" y="5867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600" y="609588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Paper, Files, Information Providers, Database Systems, OL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477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774-F229-44B1-9F78-0B2BB4053C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32148-806F-4459-A4F4-C472C6B0909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rchitecture of a Typical Data Mining 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617220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48640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5334120"/>
            <a:ext cx="1295640" cy="30456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5627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8098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 &amp; 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579132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4343400"/>
            <a:ext cx="350496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4343400"/>
            <a:ext cx="2667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or data warehous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505320"/>
            <a:ext cx="35053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666880"/>
            <a:ext cx="350496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1752480"/>
            <a:ext cx="365760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raphical 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971800"/>
            <a:ext cx="10670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3200400"/>
            <a:ext cx="99072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124080"/>
            <a:ext cx="914400" cy="838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29718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098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nowledge-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A7C-7275-4A9F-84F4-3ED4FD0FCE3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732F6-54E3-4542-A52C-68DDD2BE8F8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is work on this set of slides started with my (Han’s) tutorial for UCLA Extension course in February 19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r.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Hongjun L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from Hong Kong Univ. of Science and Technology taught jointly with me a Data Mining Summer Course in Shanghai, China in July 1998.  He has contributed many excellent slides to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ome graduate students have contributed many new slides in the following years.  Notable contributors include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Eugene Belchev, Jian Pe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, an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Osmar R. Zaia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now teaching in Univ. of Alber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98B-31FE-4992-AABE-0C403F71F3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A7701-53A2-4E75-B543-AF9F5947F04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la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wareho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ansac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dvanced DB and information reposi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-oriented and object-relation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pati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ime-series data and tempor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xt databases and multimedia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Heterogeneous and legacy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E03-FF79-4C6B-A8B3-9C88D14E94D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0E920-EAC8-4D4E-90C9-C1DA2A786EB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649620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oncept description: Characterization and 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eneralize, summarize, and contrast data characteristics, e.g., dry vs. wet reg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ssoc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rrelation and causal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ulti-dimensional vs. single-dimensional associ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ge(X, “20..29”) ^ income(X, “20..29K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buys(X, “PC”) [support = 2%, confidence = 60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ntains(T, “computer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contains(x, “software”) [1%, 75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D7B-0AEC-4E20-B64B-D826EED9FC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BA2ED-C920-406B-9855-1AE81C1F9D4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assification and Predi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ing models (functions) that describe and distinguish classes or concepts for future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.g., classify countries based on climate, or classify cars based on gas mile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sentation: decision-tree, classification rule, neural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: Predict some unknown or missing numerical valu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ust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 label is unknown: Group data to form new classes, e.g., cluster houses to find distribution patt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ustering based on the principle: maximizing the intra-class similarity and minimizing the interclass simi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B38-AFAD-46D7-91F3-766C1ABE33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1F113-47E8-4E09-976F-3EAFAC06E43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utli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Outlier: a data object that does not comply with the general behavior of the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t can be considered as noise or exception but is quite useful in fraud detection, rare events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end and evolution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rend and deviation:  regression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quential pattern mining, periodicity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imilarity-based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ther pattern-directed or statistical analy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8A8-74D7-424D-9FCB-9B0FB0BD09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A3465-DFDF-402C-8454-0529E20361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re All the “Discovered” Patterns Interest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data mining system/query may generate thousands of patterns, not all of them are interes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ggested approach: Human-centered, query-based, focused m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nterestingness measur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A pattern is </a:t>
            </a:r>
            <a:r>
              <a:rPr b="0" lang="en-US" sz="2000" spc="-1" strike="noStrike">
                <a:solidFill>
                  <a:srgbClr val="ff5050"/>
                </a:solidFill>
                <a:latin typeface="Tahoma"/>
                <a:ea typeface="굴림"/>
              </a:rPr>
              <a:t>interes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if it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easily understoo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by human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alid on new or test da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with some degree of certainty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otentially usefu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novel, or validates some hypo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at a user seeks to confir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 vs. subjective interestingness measur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statistics and structures of patterns, e.g., support, confid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u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user’s belief in the data, e.g., unexpectedness, novelty, actionability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CE3-834F-4E6A-A53C-C6CA9F78E28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5FF3A-CC3F-4365-BEB9-C328BDE514F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an We Find All and Only Interesting Pattern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Find all the interesting patterns: Complet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 vs. classification vs. clust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earch for only interesting patterns: Optim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n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roa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rst general all the patterns and then filter out the uninteresting 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enerate only the interesting patterns—mining query optim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D86-70C8-4963-BD5E-B23875F33D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B0895-5447-4280-8213-A979B3D401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4678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onfluence of Multiple Disciplin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3429000"/>
            <a:ext cx="2209680" cy="91440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051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1905120"/>
            <a:ext cx="198108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5257800"/>
            <a:ext cx="198144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181480"/>
            <a:ext cx="198108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666880"/>
            <a:ext cx="129564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2666880"/>
            <a:ext cx="114300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1464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028840" y="4419720"/>
            <a:ext cx="15238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4419720"/>
            <a:ext cx="16002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E6E-FCD5-4608-80EC-DB6FF264BB1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907F3-9A09-4701-926C-106F4CED01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lassification Sche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eneral func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scriptive data mi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edictive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ifferent views, different class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databases to be m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knowledge to be discov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techniques ut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applications adap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426-CBC6-4A16-A161-1D7D7B8463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E6B66-E7EE-4E7D-8C6F-1D620AFB98E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Multi-Dimensional View of Data Mining Classif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s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, transactional, object-oriented, object-relational, active, spatial, time-series, text, multi-media, heterogeneous, legacy, WWW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Knowledge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ation, discrimination, association, classification, clustering, trend, deviation and outlier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ultiple/integrated functions and mining at multiple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chniques uti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-oriented, data warehouse (OLAP), machine learning, statistics, visualization, neural network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pplications ada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tail, telecommunication, banking, fraud analysis, DNA mining, stock market analysis, Web mining, Weblog analys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758-5E5D-4CD2-8F14-35028DF7C9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49E99-3793-4B18-B8F5-35DB892E839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LAP Mining: An Integration of Data Mining and Data Warehou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systems, DBMS, Data warehouse systems coup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o coupling, loose-coupling, semi-tight-coupling, tight-coup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mining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ining and OLAP technolog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multi-level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ecessity of mining knowledge and patterns at different levels of abstraction by drilling/rolling, pivoting, slicing/dicing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ultiple mining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ed classification, first clustering and then assoc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4F2-A24D-41B7-96CD-F71796E394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87F50-EFE9-48AF-94DA-9FE19E95126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1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459-00.3 Course Schedu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. Introduction {W1:L2, 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2. Data warehousing and OLAP technology for data mining {W2:L1-3, W3:L1-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 1 distribution (SQLServer7.0+ DBMiner2.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3. Data preprocessing {W3:L3, W4: L1-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4. Data mining primitives, languages and system architectures  {W4: L3, W5: L1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1 due, homework #2 distribu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5. Concept description: Characterization and comparison  {W5: L2, L3, W6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6:L1 Thanksgiving D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6. Mining association rules in large databases  {W6: L3, W7: L1-3, W8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{W8: L2}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7. Classification and prediction {W8:L3, W9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8. Clustering analysis  {W10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0: L3 Homework #2 d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9. Mining complex types of data {W11: L2-L3, W12: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1:L1 Remembrance Day, W12:L3 Course project du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0. Data mining applications and trends in data mining {W13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Final Exam (W1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E6A-DC6E-4BCE-A11B-BF5B75C8D4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54303-E5F8-42C6-BFB1-B5BEBD6B8B8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n OLAM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4495680"/>
            <a:ext cx="685800" cy="22860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41148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41911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886200"/>
            <a:ext cx="11430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647712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9132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5638680"/>
            <a:ext cx="1295640" cy="30492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5867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648320"/>
            <a:ext cx="13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Meta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MD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724280" y="4343040"/>
            <a:ext cx="83844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16765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5053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362320" y="3657600"/>
            <a:ext cx="9144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33360" y="3809880"/>
            <a:ext cx="106668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876920" y="3657600"/>
            <a:ext cx="60948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952880" y="36572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24382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7432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1676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User GUI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6680" y="312408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Cub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5181480"/>
            <a:ext cx="5715000" cy="7632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438280" y="464796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495320" y="480060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2640" y="518148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6248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61722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1480" y="58672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35812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51814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20574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OLAP/OL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38862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D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556272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Reposi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83808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477120" y="1142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&amp;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6095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095880" y="3657600"/>
            <a:ext cx="22860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C4E-9E75-4B72-942E-CAB9C8D5E33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D762C-D35C-42DE-9DFA-66174BBEC8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ining methodology and user 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different kinds of knowledge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o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at multiple levels of abs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corporation of backgroun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query languages and ad-hoc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ression and visualization of data mining re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noise and incomplete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: the interestingness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erformance and sca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fficiency and scalability of data mining algorith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rallel, distributed and incremental mining metho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7C7-3167-4B92-9625-CE3AFBD21A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24422-E115-4FA8-9D98-058DE2345EE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ing to the diversity of data 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relational and complex type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information from heterogeneous databases and global information systems (WW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ed to applications and social imp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lication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omain-specific data mining too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cess control and decision ma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the discovered knowledge with existing knowledge: A knowledge fusion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tection of data security, integrity, and priv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604-BF2C-4DE4-AB59-F4D2D81CFE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E338E-B0A9-4313-A6D4-424FB90B0B7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discovering interesting patterns from large amount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natural evolution of database technology, in great demand, with wide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KDD process includes data cleaning, data integration, data selection, transformation, data mining, pattern evaluation,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can be performed in a variety of information repos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: characterization, discrimination, association, classification, clustering, outlier and trend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46A-E846-427F-806F-8CAE6D1348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35A40-D195-47C9-BF00-22FE276E40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Brief History of Data Mining Socie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89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JCAI Workshop on Knowledge Discovery in Databases (Piatetsky-Shapi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 in Databases (G. Piatetsky-Shapiro and W. Frawley, 199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1-1994 Workshops on Knowledge Discovery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Advances in Knowledge Discovery and Data Mining (U. Fayyad, G. Piatetsky-Shapiro, P. Smyth, and R. Uthurusamy, 199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5-1998 International Conferences on Knowledge Discovery in Databases and Data Mining (KDD’95-9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ournal of Data Mining and Knowledge Discovery (199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8 ACM SIGKDD, SIGKDD’1999-2001 conferences, and SIGKDD Explo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re conferences o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PAKDD, PKDD, SIAM-Data Mining, (IEEE) ICDM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109-05D5-4CC6-B19F-7A30F577AC6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65A4D-9B03-4B8D-9185-CF65FBB1F62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Referenc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mining and KDD (SIGKDD member CD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KDD, and others, such as PKDD, PAKDD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: Data Mining and Knowledge Discove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 field (SIGMOD member CD 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ACM-SIGMOD, ACM-PODS, VLDB, ICDE, EDBT, DASFA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CM-TODS, J. ACM, IEEE-TKDE, JI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I and Machine Learn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Machine learning, AAAI, IJCA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Machine Learning, Artificial Intellig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tatistic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Joint Stat. Meeting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nnals of statist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isualiza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CH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IEEE Trans. visualization and computer graph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EA5-B070-4EC1-9A7A-DFA74EE2641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7FA74-147F-44F7-80EE-07263325C24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99760" y="609480"/>
            <a:ext cx="7155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U. M. Fayyad, G. Piatetsky-Shapiro, P. Smyth, and R. Uthurusamy. Advances in Knowledge Discovery and Data Mining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. Han and M. Kamber. Data Mining: Concepts and Techniques. Morgan Kaufmann, 2000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T. Imielinski and H. Mannila. A database perspective on knowledge discovery. Communications of ACM, 39:58-64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, U. Fayyad, and P. Smith. From data mining to knowledge discovery: An overview. In U.M. Fayyad, et al. (eds.), Advances in Knowledge Discovery and Data Mining, 1-35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 and W. J. Frawley. Knowledge Discovery in Databases. AAAI/MIT Press, 199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122-49B7-4F24-B259-73A39D34DF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843D4-91F7-4ADB-A848-7E869B2F282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5409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  <a:ea typeface="굴림"/>
              </a:rPr>
              <a:t>Thank you 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90920" y="1219320"/>
          <a:ext cx="41893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1893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816-85DE-4584-96BC-6013EB124F0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2AF78-58AD-4465-8BD0-AE0B430F1FB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843 Course Arran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st week: full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2nd to 11th week: 1/2 graduate student + 1/2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2-13th week: full student graduate project pres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Course evalua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esentation (quality of presentation slides 7% + presentation 8%) 1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exam 3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(presentation 5% + report 25%)  total 3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 (2): 2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Deadline for the selection of your work in the semeste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course presentation: at the end of the 1st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the course project: at the end of the 3rd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proposal due date: at the end of the 4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due dates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due date: end of the seme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Your presentation slides due date: one day before the 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date: end of the 8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572-2331-47B9-8E00-90E04DB8A1E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D21AB-D28B-411D-B1F6-ACB6435B756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the Set of Slid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utorial sections (MS PowerPoint file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/dm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 conference presentation slides (.pp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earch papers, DBMiner system, and other related informa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C89-B8E3-495F-975A-2BDE0A7FCE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4C97F-C123-41CD-AA2C-EE56674873A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Chapter 1.  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otivation: Why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re all the patterns interest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8F8-EC9D-4926-A139-F25770E482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ECED0-97DE-477A-87A9-503F0FB1817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otivation:  “Necessity is the Mother of Invention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explosion proble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tomated data collection tools and mature database technology lead to tremendous amounts of data stored in databases, data warehouses and other information repositories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e are drowning in data, but starving for knowledge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olution: Data warehousing and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Data warehousing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knowledge (rules, regularities,  patterns, constraints) from data in 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0A7-26ED-423F-BEC5-8080009833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C2D48-A38A-48D4-804E-68C3B8EE1B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Evolution of Database Technology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(See Fig. 1.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196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collection, database creation, IMS and network DB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7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 data model, relational DBMS 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8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DBMS, advanced data models (extended-relational, OO, deductive, etc.) and application-oriented DBMS (spatial, scientific, engineering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90s—200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data warehousing, multimedia databases, and Web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9BD-39AE-415A-913A-98480B0B04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8B9E1-0D01-4A55-83CE-C9AAE374203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8640" y="699840"/>
            <a:ext cx="750708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(knowledge discovery in databases):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(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non-trivial,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mplici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reviously unknow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otentially useful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formation or patterns from data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ternative names and their “inside stories”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misnom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(mining) in databases (KDD), knowledge extraction, data/pattern analysis, data archeology, data dredging, information harvesting, business intelligenc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not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(Deductive) query processing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ert systems or small ML/statistical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87560" cy="117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8880" y="4932360"/>
            <a:ext cx="190512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F74-26BF-4FB7-87A7-CA2344CD18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8C7C9-ACBB-4762-AB7D-3FB62E5A956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y Data Mining? — Potential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 analysis and decision sup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, customer relation management,  market basket analysis, cross selling, market se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isk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orecasting, customer retention, improved underwriting, quality control, competitiv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Text mining (news group, email, documents) and Web analy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3BD-3F45-4C16-B95C-54FB91BB66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C88FA-3A16-4116-9F59-653A07E75AC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22:01:55Z</dcterms:created>
  <dc:creator>Jiawei Han</dc:creator>
  <dc:description/>
  <dc:language>en-US</dc:language>
  <cp:lastModifiedBy>Jong Soo Park</cp:lastModifiedBy>
  <cp:lastPrinted>2000-06-01T21:00:25Z</cp:lastPrinted>
  <dcterms:modified xsi:type="dcterms:W3CDTF">2002-05-14T02:30:51Z</dcterms:modified>
  <cp:revision>167</cp:revision>
  <dc:subject/>
  <dc:title>Mining Frequent Patterns Without Candidate Generation</dc:title>
</cp:coreProperties>
</file>