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512D-4D48-4308-9EA8-CAC3DB7C6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3293-93D7-4DB7-959F-15F8B7FF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596F-C633-4183-B818-AA4FEDD4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BC52-FDAD-4BE7-868A-D100ACF07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4318-E2F3-42B4-91C6-8927EBF69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F61F-5D29-4A02-8EF3-C5A493AA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7F19-E0E1-40CA-B2EC-619BC6A0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5D32-CE60-46E0-A7FB-BCE88221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BB8A-3EF5-444F-847C-DA59177C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ACCA-68AC-4C33-992E-1EA8DAFB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E4E7-E0E7-4F16-B73F-E2273D6E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C9E4-70EF-47A3-A32B-83061B44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DF68-62A2-46E1-BD5F-9D841FF2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7263-F0B6-4FEF-8DDB-192440D1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AD55-25B4-422C-9A4E-976BA7B3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B558-DC2A-4540-96C6-9764CEB2A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B23B-A775-4A89-9F1B-4833E3D9A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6345-8206-43FE-B966-5570181D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3CE9-AC7C-40AC-9FE9-513E20BC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205B-81E7-43C6-B598-A3145987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293B-E406-43BE-9BA9-A96EBC50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1DC0-5765-4A35-AFDF-404C270B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58FB-A2F6-47C6-815F-1A549AED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2A15-709F-4178-BCD5-CD3753D2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C8C2-572E-4D99-9E3E-A65514544212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5142-C47A-478B-BC9F-6F4B075BFB3F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11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구축 방법론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4193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박 종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신여자대학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컴퓨터정보학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0B64-0363-47DE-9178-BA1592F9BF0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단계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-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정의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시스템의 목적 선언문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ission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E8E0-BDE4-4947-A1F7-EEA6E818338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11 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장 구축 방법론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프로젝트 추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프로젝트 추진의 주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선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방법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다른 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Project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과 시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구축 방법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97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설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천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발견과 발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모든 단계에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문서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7CEC-2CC5-4A7A-965F-DCE1C593487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축 원칙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안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업이 사용하는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현업의 요구 사항이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100%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반영되어야 한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양이 많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강력한 하드웨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섬세한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설계 및 튜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신속한 추출과 로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시스템을 구축해본 경험으로 하면 실패하기 쉽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6784-80DB-4A22-B931-7BF3688BB59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프로젝트 추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제트 추진 주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업에서 주도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제일 바람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현업에서 원하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구축 가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컴퓨터 비전문가로 인한 신기술 도입에 어려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산실에서 주도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대개의 경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파일럿 시스템 구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외국 컨설팅 업체에서 맡길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국내 기술로도 가능하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78DF-55FC-4DC1-BA1D-737EA6D843D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업무 선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Project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안시 가장 고민하는 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제 영역 선정 작업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민감한 부분을 해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국내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제 영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port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만들기 힘든 부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경영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장표 분석 결과가 운영계 시스템과 일치하지 않는 부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을 배치 작업으로 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의 정보 가동 방식으로는 전혀 분석할 수 없는 부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7941-20FA-41FD-9E2E-FB312E62776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구축방법이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OLT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다른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사용자 수를 기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데이터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보다 약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ardwar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량 산정에 오류 가능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실제 데이터로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병목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네트워크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서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병목 현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 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현업이 프로젝트의 처음에서 끝까지 참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주인은 현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스템의 주인은 전산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DF58-3563-4C6C-8F0F-D9D9F5C224C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 Projec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시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드웨어 발주와 도착 시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에서 설치까지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월 가량 걸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원시 데이터를 정의하고 초기의 원시 데이터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 내리는 시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생각보다 시간이 많이 걸린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와 기존의 운영계 시스템에서 데이터를 맞추는 시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안 맞을 것이다’라는 자세에서 출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업무를 협의하는 시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많으면 곤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414D-086F-47B4-9E7F-5A6AAF7B1A0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축 방법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모든 단계를 체계적으로 정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밀 지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회사마다 구축 방법론이 다르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projec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시스템 개발과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다른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cycl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을 갖는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2997-82E6-4B6C-9EB3-8AF068AA36D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19320" y="762120"/>
            <a:ext cx="5638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685800"/>
            <a:ext cx="779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Oracle 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구축 방법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447920" y="1600200"/>
            <a:ext cx="5333760" cy="5016240"/>
            <a:chOff x="1447920" y="1600200"/>
            <a:chExt cx="5333760" cy="5016240"/>
          </a:xfrm>
        </p:grpSpPr>
        <p:sp>
          <p:nvSpPr>
            <p:cNvPr id="117" name=""/>
            <p:cNvSpPr/>
            <p:nvPr/>
          </p:nvSpPr>
          <p:spPr>
            <a:xfrm>
              <a:off x="1447920" y="1600200"/>
              <a:ext cx="52578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정  의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47920" y="2516040"/>
              <a:ext cx="3124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분  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47920" y="3432240"/>
              <a:ext cx="3124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0000"/>
                  </a:solidFill>
                  <a:latin typeface="Tahoma"/>
                  <a:ea typeface="굴림"/>
                </a:rPr>
                <a:t>설  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47920" y="4348080"/>
              <a:ext cx="3124080" cy="47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0000"/>
                  </a:solidFill>
                  <a:latin typeface="Tahoma"/>
                  <a:ea typeface="굴림"/>
                </a:rPr>
                <a:t>구  축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47920" y="5221440"/>
              <a:ext cx="3124080" cy="47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천  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47920" y="6095880"/>
              <a:ext cx="533376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발견과 발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0000">
              <a:off x="4489560" y="3892680"/>
              <a:ext cx="3124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문 서 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1992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19920" y="5715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71800" y="2133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71800" y="3048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71800" y="3962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71800" y="4800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1800" y="5715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0" y="2819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37339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0" y="4572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54864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332B-7B5D-45A8-B6C4-A53893D04D91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6-03T06:11:41Z</dcterms:modified>
  <cp:revision>288</cp:revision>
  <dc:subject/>
  <dc:title>제6장 데이터 웨어하우스의 관리</dc:title>
</cp:coreProperties>
</file>